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8.png" ContentType="image/png"/>
  <Override PartName="/ppt/media/image7.jpeg" ContentType="image/jpeg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1068E-5B83-4FC2-A55A-9351146ED53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AFEB5-49D5-4D52-BD17-5FB3F1CF828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F8393-7D5B-4524-8EA5-405A6E90114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FA1E7-D525-4F1B-B65C-017E790743E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82F03-E371-4C74-BF12-2C7DF9995A1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D59FC-0800-4483-B7BF-A44B2F56BAC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6A1B1-04DA-41E2-A6B5-4BD01160172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CE70-2018-42E2-B44F-25E22F765F2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F8BB-D587-42C2-B85D-45D740A3622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F1335-3B5D-4C95-97B5-08B3875FA9F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DFFE8-6BCE-429F-8703-BC986C88062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CAD34-2DFD-43D6-8B11-2B528FD0A21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DB7B0-9E61-4897-95A8-2AD57A1CFF0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AC47E-4D42-40D0-A8AA-BA76915DB5D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E0408-981F-4BB0-91CC-783ED65EC4A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A1EBD-978C-4771-A438-765F878929F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713FA-EB92-4C16-88FC-40D78DADF51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72F2F-FCD7-4BDF-A9F4-6566327D5DE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5541-3A17-4259-A43F-39DCC9DF8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3380-4106-49E6-982F-96450905E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8322-1F8C-426E-BE71-297D22EDC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9693-CDBD-466D-B87C-EDD4D4A0D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82136-6E45-4FAD-B0C8-7F9CCFFF5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B2F23-01FB-4D64-9243-66EB7410A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DFCE7-A425-4C26-A07F-09EC20B99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2E9F2-A153-4B9A-B142-5867D4ACE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F79AF-341F-4A50-BE39-BA9E537DD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27AB7-AA8D-46CB-8E3C-080D088F4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0EC00-1D2B-416D-AB9C-E6C17198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A688-93EB-4EA4-8CEB-0DBBBB572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8BD74-3E53-4F66-B6C0-01BB7E2F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0FE92-C5CA-40C7-B5E0-A8230A8F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A2D05-52DE-4848-BDA7-3B2A42FFC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7454F-4495-4183-A8CA-24063CB5B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02165-7E9B-4DA5-B110-BEF60C3D0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AF76-1BDB-475A-BFC7-3BAB43645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6412-C61C-4993-84BB-43E8D78F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9A1A-4675-4D57-AA20-B0D4C2CF9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CE94-6C92-4D08-B38D-2D020D7A7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ECAA-EF52-488C-8D0F-3F08385B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4DAF-A07A-4B88-85D3-DD7B62AA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C976-15B0-4963-929F-14EEDE58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D1D81-E76D-4735-89C0-4CBF6D5A145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AE7B3-F531-4B72-994D-CE1A41C020F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32000" y="141300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600" spc="-1" strike="noStrike">
                <a:solidFill>
                  <a:srgbClr val="ff0000"/>
                </a:solidFill>
                <a:latin typeface="Comic Sans MS"/>
              </a:rPr>
              <a:t>Lernzirkel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Eine Form des offenen Unterrich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Stationentyp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4000" y="206064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703dff"/>
                </a:solidFill>
                <a:latin typeface="Comic Sans MS"/>
              </a:rPr>
              <a:t>Pufferstationen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703dff"/>
                </a:solidFill>
                <a:latin typeface="Comic Sans MS"/>
              </a:rPr>
              <a:t>   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An ihnen liegt Arbeitsmaterial in mehrfacher Ausführung a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Picture 5" descr="lernzirkel_pufferstation"/>
          <p:cNvPicPr/>
          <p:nvPr/>
        </p:nvPicPr>
        <p:blipFill>
          <a:blip r:embed="rId1"/>
          <a:stretch/>
        </p:blipFill>
        <p:spPr>
          <a:xfrm>
            <a:off x="4356000" y="2060640"/>
            <a:ext cx="4276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Stationentyp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4000" y="213372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703dff"/>
                </a:solidFill>
                <a:latin typeface="Comic Sans MS"/>
              </a:rPr>
              <a:t>Kontrollstation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703dff"/>
                </a:solidFill>
                <a:latin typeface="Comic Sans MS"/>
              </a:rPr>
              <a:t>   </a:t>
            </a:r>
            <a:r>
              <a:rPr b="0" lang="de-DE" sz="2600" spc="-1" strike="noStrike">
                <a:solidFill>
                  <a:srgbClr val="000000"/>
                </a:solidFill>
                <a:latin typeface="Comic Sans MS"/>
              </a:rPr>
              <a:t>Hier liegen Materialien aus, mit denen Schüler ihre Arbeitsergebnisse vergleichen könne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Picture 5" descr="lernzirkel_kontrol-service"/>
          <p:cNvPicPr/>
          <p:nvPr/>
        </p:nvPicPr>
        <p:blipFill>
          <a:blip r:embed="rId1"/>
          <a:stretch/>
        </p:blipFill>
        <p:spPr>
          <a:xfrm>
            <a:off x="4284720" y="1916280"/>
            <a:ext cx="4199040" cy="42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Stationentyp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4000" y="206064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703dff"/>
                </a:solidFill>
                <a:latin typeface="Comic Sans MS"/>
              </a:rPr>
              <a:t>Servicestation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703dff"/>
                </a:solidFill>
                <a:latin typeface="Comic Sans MS"/>
              </a:rPr>
              <a:t>   </a:t>
            </a:r>
            <a:r>
              <a:rPr b="0" lang="de-DE" sz="2600" spc="-1" strike="noStrike">
                <a:solidFill>
                  <a:srgbClr val="000000"/>
                </a:solidFill>
                <a:latin typeface="Comic Sans MS"/>
              </a:rPr>
              <a:t>bietet Schülern die Möglichkeit, sich über Bücher, Internet… mit Wissen zu versorge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Picture 5" descr="lernzirkel_kontrol-service"/>
          <p:cNvPicPr/>
          <p:nvPr/>
        </p:nvPicPr>
        <p:blipFill>
          <a:blip r:embed="rId1"/>
          <a:stretch/>
        </p:blipFill>
        <p:spPr>
          <a:xfrm>
            <a:off x="4500720" y="1916280"/>
            <a:ext cx="4059000" cy="41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6870600" cy="91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0000"/>
                </a:solidFill>
                <a:latin typeface="Comic Sans MS"/>
              </a:rPr>
              <a:t>Gestaltung &amp; Durchführu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76960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Auswahl des Them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Einteilung der Stationen und Planung von Ziel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Beschaffung und Erstellen von Arbeitsmateri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Erstellen und Gestalten der Station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Festlegen von Form u. Strukturen des Lernzirke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Wahl der Sozialfor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Art, wie Schüler Arbeitsanweisungen erhalten, festleg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Formulierung der Arbeitsaufträg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Festlegen von Verhaltensregel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Stationen aufbau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113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Didaktischer 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Einstiegspha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611280" y="2565360"/>
            <a:ext cx="792000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6870600" cy="91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Didaktischer 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Erarbeitungspha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820908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6870600" cy="98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Didaktischer 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655020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Vertiefungs- /Sicherungspha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79280" y="2492280"/>
            <a:ext cx="841536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6870600" cy="91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Vor- und Nachtei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45720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703dff"/>
                </a:solidFill>
                <a:latin typeface="Comic Sans MS"/>
              </a:rPr>
              <a:t>         </a:t>
            </a:r>
            <a:r>
              <a:rPr b="0" lang="de-DE" sz="2400" spc="-1" strike="noStrike">
                <a:solidFill>
                  <a:srgbClr val="703dff"/>
                </a:solidFill>
                <a:latin typeface="Comic Sans MS"/>
              </a:rPr>
              <a:t>Vorteile</a:t>
            </a: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Prinzip der Binnendifferenzierung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Individuelles, selbstständiges und selbstgesteuertes Lern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Eigenmotiv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Methodenkompetenz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Handlungsorientieru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Sozialkompetenz u. Gruppendynami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Förderungsmöglichkeit einzelner Schüler durch den Lehrer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16000" y="1412640"/>
            <a:ext cx="42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703dff"/>
                </a:solidFill>
                <a:latin typeface="Comic Sans MS"/>
              </a:rPr>
              <a:t>             </a:t>
            </a:r>
            <a:r>
              <a:rPr b="0" lang="de-DE" sz="2400" spc="-1" strike="noStrike">
                <a:solidFill>
                  <a:srgbClr val="703dff"/>
                </a:solidFill>
                <a:latin typeface="Comic Sans MS"/>
              </a:rPr>
              <a:t>Nachtei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Großer Disziplinbedar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Kraftaufwand und Optimismus von Seiten des Lehr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Genaue, zeitaufwendige Planu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Hoher Materialaufwan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Größerer Platzbedar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Gefahr der Überforderung schwächerer Schül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Was ist ein Lernzirkel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Der Lernzirkel, auch Stationenlernen genannt, bezeichnet eine Lehrtechnik, bei der die Schüler in der Regel selbstständig und eigentätig anhand vorbereiteter Materialien, die in Stationen angeordnet sind, lerne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6870600" cy="106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Verschiedene</a:t>
            </a:r>
            <a:r>
              <a:rPr b="0" lang="de-DE" sz="4400" spc="-1" strike="noStrike">
                <a:solidFill>
                  <a:srgbClr val="ffb800"/>
                </a:solidFill>
                <a:latin typeface="Comic Sans MS"/>
              </a:rPr>
              <a:t> </a:t>
            </a: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Form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5364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703dff"/>
                </a:solidFill>
                <a:latin typeface="Comic Sans MS"/>
              </a:rPr>
              <a:t>   </a:t>
            </a:r>
            <a:r>
              <a:rPr b="0" lang="de-DE" sz="3000" spc="-1" strike="noStrike">
                <a:solidFill>
                  <a:srgbClr val="703dff"/>
                </a:solidFill>
                <a:latin typeface="Comic Sans MS"/>
              </a:rPr>
              <a:t>Geschlossener Lernzirkel: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Die einzelnen Stationen bauen aufeinander auf und müssen in einer vorgegeben Reihenfolge bearbeitet werd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5" descr="lernzirkel_grundschema"/>
          <p:cNvPicPr/>
          <p:nvPr/>
        </p:nvPicPr>
        <p:blipFill>
          <a:blip r:embed="rId1"/>
          <a:stretch/>
        </p:blipFill>
        <p:spPr>
          <a:xfrm>
            <a:off x="5095800" y="2060640"/>
            <a:ext cx="34974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6870600" cy="120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Verschiedene Form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Variation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5" descr="lernzirkel_variabel"/>
          <p:cNvPicPr/>
          <p:nvPr/>
        </p:nvPicPr>
        <p:blipFill>
          <a:blip r:embed="rId1"/>
          <a:stretch/>
        </p:blipFill>
        <p:spPr>
          <a:xfrm>
            <a:off x="2050920" y="1700280"/>
            <a:ext cx="650736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113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Verschiedene Form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-360" y="1413000"/>
            <a:ext cx="42116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703dff"/>
                </a:solidFill>
                <a:latin typeface="Comic Sans MS"/>
              </a:rPr>
              <a:t>   </a:t>
            </a:r>
            <a:r>
              <a:rPr b="0" lang="de-DE" sz="3000" spc="-1" strike="noStrike">
                <a:solidFill>
                  <a:srgbClr val="703dff"/>
                </a:solidFill>
                <a:latin typeface="Comic Sans MS"/>
              </a:rPr>
              <a:t>Offener Lernzirkel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703dff"/>
                </a:solidFill>
                <a:latin typeface="Comic Sans MS"/>
              </a:rPr>
              <a:t>  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Die Schüler dürfen frei wählen, in welcher Reihenfolge sie die Stationen bearbeiten woll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5" descr="lermzirkel_offen"/>
          <p:cNvPicPr/>
          <p:nvPr/>
        </p:nvPicPr>
        <p:blipFill>
          <a:blip r:embed="rId1"/>
          <a:stretch/>
        </p:blipFill>
        <p:spPr>
          <a:xfrm>
            <a:off x="4067280" y="2276640"/>
            <a:ext cx="4651200" cy="39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6870600" cy="98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Verschiedene Form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-360" y="1413000"/>
            <a:ext cx="50036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703dff"/>
                </a:solidFill>
                <a:latin typeface="Comic Sans MS"/>
              </a:rPr>
              <a:t>   </a:t>
            </a:r>
            <a:r>
              <a:rPr b="0" lang="de-DE" sz="3000" spc="-1" strike="noStrike">
                <a:solidFill>
                  <a:srgbClr val="703dff"/>
                </a:solidFill>
                <a:latin typeface="Comic Sans MS"/>
              </a:rPr>
              <a:t>Unterteilter Lernzirkel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703dff"/>
                </a:solidFill>
                <a:latin typeface="Comic Sans MS"/>
              </a:rPr>
              <a:t>  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Aufteilung in inneren und äußeren Zirkel, also in Wahl- (=Additum) und Pflichtprogramm (=Fundamentum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5" descr="lernzirkel_doppelzirkel"/>
          <p:cNvPicPr/>
          <p:nvPr/>
        </p:nvPicPr>
        <p:blipFill>
          <a:blip r:embed="rId1"/>
          <a:stretch/>
        </p:blipFill>
        <p:spPr>
          <a:xfrm>
            <a:off x="4572000" y="2421000"/>
            <a:ext cx="442764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687060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Stationentyp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703dff"/>
                </a:solidFill>
                <a:latin typeface="Comic Sans MS"/>
              </a:rPr>
              <a:t>Feste (fixe) Stationen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703dff"/>
                </a:solidFill>
                <a:latin typeface="Comic Sans MS"/>
              </a:rPr>
              <a:t>  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Stationen, die an einer bestimmten Stelle aufgebaut sind und an denen selbst die Arbeitsaufgabe bewältigt werden muss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55280" y="188640"/>
            <a:ext cx="6870600" cy="98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Stationentyp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000" y="14130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703dff"/>
                </a:solidFill>
                <a:latin typeface="Comic Sans MS"/>
              </a:rPr>
              <a:t>Außenstatio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5" descr="lernzirkel_aussenstationen"/>
          <p:cNvPicPr/>
          <p:nvPr/>
        </p:nvPicPr>
        <p:blipFill>
          <a:blip r:embed="rId1"/>
          <a:stretch/>
        </p:blipFill>
        <p:spPr>
          <a:xfrm>
            <a:off x="1908000" y="1773360"/>
            <a:ext cx="6407280" cy="48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6870600" cy="98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Stationentyp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703dff"/>
                </a:solidFill>
                <a:latin typeface="Comic Sans MS"/>
              </a:rPr>
              <a:t>Parallelstationen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Es ist sehr sinnvoll, A-, B-, C-Stationen (etc.) anzubieten, an denen jeweils dasselbe Teillernziel über die Beanspruchung unterschiedlicher Sinne oder über unterschiedliche Aktivitätsformen zu erreichen is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1T11:10:24Z</dcterms:created>
  <dc:creator>Maria Schwab</dc:creator>
  <dc:description/>
  <dc:language>en-US</dc:language>
  <cp:lastModifiedBy>Silke Herbst</cp:lastModifiedBy>
  <dcterms:modified xsi:type="dcterms:W3CDTF">2011-03-29T18:54:56Z</dcterms:modified>
  <cp:revision>4</cp:revision>
  <dc:subject/>
  <dc:title>Lernzirkel</dc:title>
</cp:coreProperties>
</file>