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EED5-3041-4CF0-A4A1-6D512E1C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6CE-6C2F-472F-AF95-6DC17123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DD7-7E63-4BD3-9AB5-3373CF50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3B7-DA5A-4F0B-9BED-7747B847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785-D2E4-46FD-838D-2FD03400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0808-39D2-406A-B4CE-4468EF84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331-11D8-4FE0-98D0-D294B59B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C49A-CD2A-4474-B10F-9B279834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CF2-E04B-4BA3-A167-A9BED727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879-8FA5-4FA7-A2D2-A44A8915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8C2-1476-4B85-B64F-F91B316E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745-34E2-4CB9-ACB1-1CA81C3E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2C71-11C9-480E-B7A5-13A217F8B61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E43D-5DBF-445D-863C-E05DEF814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Grafik 1" descr=""/>
          <p:cNvPicPr/>
          <p:nvPr/>
        </p:nvPicPr>
        <p:blipFill>
          <a:blip r:embed="rId2"/>
          <a:stretch/>
        </p:blipFill>
        <p:spPr>
          <a:xfrm>
            <a:off x="611280" y="6524640"/>
            <a:ext cx="419040" cy="14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E573-5D35-4DE1-A13A-8FF2584F1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elle Programmierspr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wickelt im Medien-Labor des 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60D7-22E9-415A-9DA5-31386651D52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B3DF8-951E-4101-8694-1CA8004823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„AB2.2 Muster zeichnen.pdf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636D-EAC9-4B4C-91BA-1E224AA8AD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190CF-49E4-46B7-B591-61724F2115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2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ostüm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3516480" cy="4608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ihr Aussehen änd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6DB8-BD54-423A-A75E-BF365022267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B896C-93FC-4EFA-B7D3-B3788ABAB6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läng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5399280" cy="384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Klänge abspi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41E3-2688-4007-9C67-A8DC4ADB756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24B33-2BA0-44BE-A375-9E153DA096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ispiel Kostüme + Klä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kt „Kostüme+Klänge.sb2“ vorfü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ostüme erstellen, ändern, im Skript verwenden; Klänge im Skript einfü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464D-7A07-4044-9C02-D34765B8A1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E7308-3B83-45AE-B318-951EE11A7D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408720" cy="865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as erste Spiel -&gt;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64000" y="1267920"/>
            <a:ext cx="35388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el für einen Spieler (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 bewegt sich auf dem Spielfeld und prallt am Rand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bewegt horizontal mit der Maus einen Schläger, um zu verhindern, dass der Ball den unteren Rand berü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638600" cy="3467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050920" y="3645000"/>
            <a:ext cx="576360" cy="428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576360" cy="42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68360" y="1628640"/>
            <a:ext cx="2448000" cy="1224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68360" y="2852640"/>
            <a:ext cx="180000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339640" y="2852640"/>
            <a:ext cx="86364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547640" y="1844640"/>
            <a:ext cx="503280" cy="289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3068280"/>
            <a:ext cx="360360" cy="431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56000" y="3933720"/>
            <a:ext cx="3240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492360" y="4724280"/>
            <a:ext cx="22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04C-EC80-4934-8F45-8D0C7F7575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12B47-875C-4F22-A5B7-11106511E1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rbereitung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tzenfigur lö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ühne vorbereiten -&gt; am unteren Rand dünnes farbiges Rechteck 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läger und Ball ergä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 -&gt; aus der Figurenbibliothek hinzufü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läger -&gt; neue Figur zeichnen (ausgefülltes Rechteck; Drehpunkt in die Mitte des Rechtecks setzen; y-Koordinate ungefähr -1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515-4D17-4C60-951A-8F814B3C65E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19C4B-5C33-434E-87C2-6C219A1E7B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139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ripte zur Bewegung der Figuren ergänz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Schläger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5714" r="0" b="0"/>
          <a:stretch/>
        </p:blipFill>
        <p:spPr>
          <a:xfrm>
            <a:off x="1547640" y="3284640"/>
            <a:ext cx="3313440" cy="1911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84020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3429000"/>
            <a:ext cx="309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Schläger ist zu Beginn an der Position (0;-12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ch die Bewegung der Maus kann der Schläger nach links und rechts verschob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7F65-3A07-4C3C-A29C-E3D5A626AFE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520BF-CE04-45B9-94AC-EE20CC66DB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4896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Ball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4392720" cy="4174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92720" y="2205000"/>
            <a:ext cx="34560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startet bei der Position (0;160) mit einer zufällig gewählten Richtung zwischen 135° und 225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bewegt sich fortlaufend um 5 Schritte und prallt nach einiger Zeit vom Rand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er Schläger berührt, so wird die Bewegungsrichtung auf einen Wert zwischen -30° und 30° gesetzt und es ertönt ein Aufprall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llt der Ball nach unten, also berührt den farbigen Streifen, so hält das Programm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FEEF-9567-4973-BA5D-D725E2B57DF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F9F82-E8CF-4902-A681-9E345FFB58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ähler einbauen für die Anzahl der „Rückschläge“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w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01D7-3A8B-469A-81FB-F33F628E1A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A95C3-0B4A-46C3-95DD-699D95B820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360" y="1628280"/>
            <a:ext cx="41972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altfläche „Dat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ton „Neue Variable“ anklicken und Variablennamen fest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ble kann jetzt im Skript verwende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203640" cy="3384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>
            <a:off x="1835280" y="1773360"/>
            <a:ext cx="2665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2349360"/>
            <a:ext cx="2663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DC1-EDBC-4C66-A3EE-D290D1AE640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2ECC4-359B-460B-8F4F-0D96384578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CC BY-SA 3.0 D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. Bi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7E7D-6426-4072-8F88-199C5249D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ipt -&gt; Stapel aus Programmierblöc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095640" cy="160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4427640" y="2349360"/>
            <a:ext cx="3809880" cy="1229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500720" y="378936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Gerade Verbindung mit Pfeil 2"/>
          <p:cNvCxnSpPr/>
          <p:nvPr/>
        </p:nvCxnSpPr>
        <p:spPr>
          <a:xfrm flipH="1">
            <a:off x="1978920" y="1413000"/>
            <a:ext cx="43236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BFAB-8AEB-40B3-8CB2-9C281A5AB8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0B7CE-5A60-4FA9-AEA1-B0F9D13332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584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ändertes Skript für den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933720" cy="446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6292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788000" y="1197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ählvariable erscheint links oben auf der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643280" y="148428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9975-FD55-4F01-BB49-F2BC5C7E3C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3B36F-1764-4985-9CCA-E89F1C4BFA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echnen in 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2736720" cy="140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665440" cy="1515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16360" y="1700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ennst du ein Muster in diesen Produk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773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nen mit Re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059280" y="4508640"/>
            <a:ext cx="3960720" cy="1535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40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fallsza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216360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EBD-2052-46C0-B105-5202CE31254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F5E8A-6AA2-4253-9604-E00288DEEE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hempfehl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supereasy: Einfacher Einstieg in SCRATCH und PYTHON“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310-2700-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mit Scratch – Arbeitsheft“, Herdt-Verlag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6249-239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Learn to program with Scratch“, ISBN 978-1-59327-543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5950-1730-493A-9869-53A5ACB2F48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4AB14-D038-4D2B-8238-2B02A5A0E7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liennummernplatzhalter 5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3C89-C595-4602-A6C1-9BB5E6392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4360" y="404640"/>
            <a:ext cx="5903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ratch Programmierumgeb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>
            <a:alphaModFix amt="0"/>
          </a:blip>
          <a:srcRect l="-5" t="-7" r="-5" b="-7"/>
          <a:stretch/>
        </p:blipFill>
        <p:spPr>
          <a:xfrm>
            <a:off x="826920" y="1700280"/>
            <a:ext cx="6337440" cy="4240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7164360" y="1844640"/>
            <a:ext cx="165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üh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Objektlis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lock-Palet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Script-F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619280" y="1844640"/>
            <a:ext cx="1440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0"/>
          <p:cNvCxnSpPr/>
          <p:nvPr/>
        </p:nvCxnSpPr>
        <p:spPr>
          <a:xfrm flipV="1" rot="10800000">
            <a:off x="212328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58" name="Text Box 11"/>
          <p:cNvSpPr/>
          <p:nvPr/>
        </p:nvSpPr>
        <p:spPr>
          <a:xfrm>
            <a:off x="270036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-Bal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3924360" y="1844640"/>
            <a:ext cx="1008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AutoShape 13"/>
          <p:cNvCxnSpPr/>
          <p:nvPr/>
        </p:nvCxnSpPr>
        <p:spPr>
          <a:xfrm flipV="1" rot="10800000">
            <a:off x="442692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61" name="Text Box 14"/>
          <p:cNvSpPr/>
          <p:nvPr/>
        </p:nvSpPr>
        <p:spPr>
          <a:xfrm>
            <a:off x="5076720" y="105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sor-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1"/>
          <p:cNvSpPr/>
          <p:nvPr/>
        </p:nvSpPr>
        <p:spPr>
          <a:xfrm>
            <a:off x="1403280" y="1844640"/>
            <a:ext cx="216000" cy="287280"/>
          </a:xfrm>
          <a:prstGeom prst="ellipse">
            <a:avLst/>
          </a:prstGeom>
          <a:noFill/>
          <a:ln w="507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Gerade Verbindung mit Pfeil 3"/>
          <p:cNvCxnSpPr>
            <a:endCxn id="62" idx="0"/>
          </p:cNvCxnSpPr>
          <p:nvPr/>
        </p:nvCxnSpPr>
        <p:spPr>
          <a:xfrm>
            <a:off x="1510920" y="1347840"/>
            <a:ext cx="1080" cy="497520"/>
          </a:xfrm>
          <a:prstGeom prst="straightConnector1">
            <a:avLst/>
          </a:prstGeom>
          <a:ln w="31680">
            <a:solidFill>
              <a:srgbClr val="72bfc5"/>
            </a:solidFill>
            <a:miter/>
            <a:tailEnd len="med" type="arrow" w="med"/>
          </a:ln>
        </p:spPr>
      </p:cxnSp>
      <p:sp>
        <p:nvSpPr>
          <p:cNvPr id="64" name="Textfeld 4"/>
          <p:cNvSpPr/>
          <p:nvPr/>
        </p:nvSpPr>
        <p:spPr>
          <a:xfrm>
            <a:off x="709560" y="9414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ache än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C2F-1443-48F0-AD95-D0C7006A97B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89D2E-2CC1-46BF-AF78-D52ADFD9DA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B591-BB55-49FA-9F15-B14CB94DA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324000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12000" y="1557360"/>
            <a:ext cx="2674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ühne ist wie eine Koordinaten-Ebene mit Punkte (0;0) im Mittelpun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wegung des Maus-Cursors zeigt die Koordinaten (x;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5616360" cy="424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1297080" cy="345960"/>
          </a:xfrm>
          <a:prstGeom prst="rect">
            <a:avLst/>
          </a:prstGeom>
          <a:ln w="0">
            <a:noFill/>
          </a:ln>
        </p:spPr>
      </p:pic>
      <p:sp>
        <p:nvSpPr>
          <p:cNvPr id="70" name="Line 6"/>
          <p:cNvSpPr/>
          <p:nvPr/>
        </p:nvSpPr>
        <p:spPr>
          <a:xfrm flipH="1">
            <a:off x="6084360" y="5157720"/>
            <a:ext cx="2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99B-89AD-4A66-9A2D-6F33E59BDE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6242D-8699-4BAD-A1A4-5B551F89B7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B9D8-B154-4B98-9D86-BB0E99E13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4686480" cy="4010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611280" y="620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äsentationsmo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116000" y="119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276720" y="76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üne Flagge -&gt; Start des Projek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6012000" y="1700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er Punkt -&gt; Projekt be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H="1">
            <a:off x="5364000" y="1916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493236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176364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1042920" y="98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92360" y="260280"/>
            <a:ext cx="360036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EA3-23AD-4D82-AA04-8A1003B6CE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02D4B-9E27-4CD0-81BF-2BAE6C4496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BB89-B11C-4CBD-9633-DC7255782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068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nli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4638600" cy="168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500720" y="2133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 aus Bibliothek 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932360" y="2492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e Figur 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4859280" y="256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5076720" y="2852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321300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Figur1 mit Button i (linke obere Ecke) für Figureigen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042920" y="23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die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 flipH="1">
            <a:off x="2555640" y="371628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1476360" y="2997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1116000" y="4365720"/>
            <a:ext cx="863640" cy="4316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V="1">
            <a:off x="1547640" y="479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906120" y="515772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für die Erstellung neuer Bühnenb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3335040" cy="1117800"/>
          </a:xfrm>
          <a:prstGeom prst="rect">
            <a:avLst/>
          </a:prstGeom>
          <a:ln w="0">
            <a:noFill/>
          </a:ln>
        </p:spPr>
      </p:pic>
      <p:sp>
        <p:nvSpPr>
          <p:cNvPr id="97" name="Line 20"/>
          <p:cNvSpPr/>
          <p:nvPr/>
        </p:nvSpPr>
        <p:spPr>
          <a:xfrm>
            <a:off x="730872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642-51F6-40EF-A069-F625D1A4077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158D8-4EC7-42BB-A81C-485F815170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0029-7F58-485C-8F59-238484713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erblöc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unterteilt in 10 Kategorien (Palet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3241800" cy="2263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195640" y="2349360"/>
            <a:ext cx="216036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4149720"/>
            <a:ext cx="32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öc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b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odiert zum leichten Auffinden verwandter Blö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87280" y="4508640"/>
            <a:ext cx="2592720" cy="128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3779640" y="49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538-B9EC-4E9B-9211-0D99AC2A84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EA450-63DE-4B98-9708-74BEEEAE3A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beispi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atch-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tivationsbeispiel.s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ratch – Hallo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e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604-BDE9-4066-9147-7B214533D3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AE4FE-3FA6-46E3-857A-0F4A07902B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D018-B37D-4755-BAB9-1EED8FE1D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AB1 Die Scratch-Programmierumgebung.pdf“ mit Datei „Einstiegsbeispiel.sb2“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adadad"/>
                </a:solidFill>
                <a:latin typeface="Arial"/>
              </a:rPr>
              <a:t>alternativ „AB1.2 Die Scratch-Programmierumgebung.pdf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C858-ED21-4220-BAF4-9BED565943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A9643-D537-4C60-A155-247A58F9BF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0T16:43:43Z</dcterms:created>
  <dc:creator>G. Birke</dc:creator>
  <dc:description/>
  <dc:language>en-US</dc:language>
  <cp:lastModifiedBy>G. Birke</cp:lastModifiedBy>
  <dcterms:modified xsi:type="dcterms:W3CDTF">2017-09-24T16:55:15Z</dcterms:modified>
  <cp:revision>17</cp:revision>
  <dc:subject/>
  <dc:title>Scratch</dc:title>
</cp:coreProperties>
</file>