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4D58-B3C6-4C1A-A73C-3EE4510D542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CEB7-CCB6-4AA6-B645-54BFA04281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37E0-E432-45EE-8A0B-AC63B276AE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804-69C6-4BFA-86BF-AF79A151B6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ABA3-6E95-46B3-A6BE-206FE64CE9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D68B-9F82-40EF-9171-DB5D71D864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8919-7247-45E5-963A-E5A05AFCAD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87DE-A02D-4CDC-8CF8-7FE05ABAE3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4F81-F76A-4EE1-B75A-68AC77DBF4D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4D0D-3083-4562-88CA-3F6A47172D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78F9-0160-412D-A8D0-381E54BEC5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2D45-FF9B-4FE2-A2E3-24251215C1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065C-9F90-4BB5-A53E-3295E6501B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6CA2-38A0-4A61-89E3-E4BE0179EF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B70F-15C0-4A7F-B057-39190D3B99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CD70-78A9-42F5-8A18-E1DA589FD0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405F-3727-43B9-A5B3-7B4F133C798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152C-EB53-4B3F-A764-8CA6FAFB98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8ECB-6DBE-4FD7-9384-150B337425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2A2B-13A2-4F38-858F-5A9AA4DD97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5908-FF1F-41F5-A9AB-E482145788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51AD-97A2-424D-BDEF-3B7C5FEA5E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6DE4-6B50-41F8-B3D3-FC1B370764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CE2-AC0A-4193-953E-653A2953B5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B9B9-4EC4-48A2-B788-13759B13C7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F46C-1008-4442-AF1A-DB757D9A1A5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B393-E4B1-4A30-BCFA-EE5A4A5379C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D903-D408-4686-B76D-26E8972A02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griff auf Hardware -&gt; Hardware Abstraction Layer (H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D17D-A4B7-4B61-98FA-6A98CF92C1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C629-72E9-419F-8208-F388F76552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720E-2A27-4DDB-9DA0-9CBA98DA46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1C6C-E90D-4697-A09A-9CC8EFF5B83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7C0E-2B8A-44FE-9F9C-A347DCD92F0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DA36-9FF0-43B7-91FD-4A0E9B055F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40E6-5E3E-47FB-82B8-79B6E2744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C38E-0F1C-4CA9-AED2-E2B4E955F7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E3CFF-48F1-49B6-A1C6-10916F1BD15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4C105-597F-4723-AC68-66E275143D4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F8412-CEB0-4992-BDC9-B9C463072E4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A0CE2-0ABE-4745-B64F-83EB1E4BCCD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57E41-BB5E-4139-9BBC-51A46BFE72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D7753-F1E7-428C-9B39-9C63FCEE721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CC02E-7AC6-4987-AB60-F4CB90EBEC0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8F0A0-7B61-4CD3-AEDD-D40FA82003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46479-0B5A-4B17-B149-C3D39874B6C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D3F9-EAAC-4918-B454-B09003782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95AA-25B0-4F19-9244-BAD06CB4E17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95BF-2C02-4175-9AE6-6455E5C7D89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1685-391A-4ACF-9F81-C046ABFFA88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765D9-D41D-45EF-9F5D-DBBF939036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5B023-5CEF-4E92-976B-626685F5788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A6CC-825A-4396-A996-C2F04A5A4B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7FD6-77C5-41C8-9721-7BAF9179F0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55B1-429E-4C5B-922C-7196A1966B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6794-6670-417B-B0AC-F133AC435EB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4DFA-A0A3-47F4-89FC-848C8A87AAF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251B1-C336-41D8-A72A-EB60D1AC6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4C24-F4F4-4773-9D01-2BDDE05AB9B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D893-F1BE-457D-9C4C-4BD2E84165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59F885-D46E-44EC-B5C3-F52CC751647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2378C-7CAB-42A1-8902-A1944DF46BC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DE8D3-80D1-49B8-9E4E-0442D340676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E59163-5979-46C1-943D-DABC79066C9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D49DC-CB25-4170-BD20-A1A9E28C8D3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4FFF0-9FEA-4585-8751-B2F63528BAB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DF8B7-05C7-4A0F-9D44-948937A159B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6DFE3-A8B3-4673-BACA-22A853A1DF7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046F32-F52D-4DFD-BF4D-C7DE09437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87C64-BB5A-49A6-B160-9FAC3426D7B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401A2-56D3-441D-B02A-50A1DCDB76F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39B69-FF40-4A77-83F8-DBDAB68F4F0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DB631-F7C2-460B-B1BF-69C2910A05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9D0056-7B20-44F1-AA5F-2456433068C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7B8A34-3BD4-4F5F-8F5A-727446954A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BD06F-A7D8-4974-8CD4-691B0C579E6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C2D7C-C82E-4DD2-BEB6-1ABF048CAC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2297B-3E63-4F24-91BA-2D36FEA2955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2D652-0A81-4607-A23F-EFA10EF7AC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C1034-8122-4605-B6E4-86D70A27EC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D8A73-8740-4980-9922-FC65BFB9EF4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A47AC-9126-4870-8A67-A7EC20F54D5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2DBCA-42CC-4C1C-AFE3-2BE5264B09C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4CD75A-327D-40EC-BE28-E387FF50384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1A73B-DDC2-4A64-9A3C-F2AC60FAA26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AF9A-20DB-486F-8BEF-F638345A7F4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B373-8D83-4767-B04A-3603371AAF7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188F-D452-423C-AC9A-C4393D7F900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9AAF-3A05-43A0-9CB4-EF34702D1A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DBB31-3F07-4B04-B6EF-7CAB14C0DCB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678C7-AB1A-4A3D-A283-0477907A0A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3AED8-7F00-4F4A-9C89-9B8D7443023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57DD-72CF-4E9A-9C30-2B78BEFBEE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28CF-69D8-40FD-9AAA-FC7887C0E70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ED78-74DF-4D1B-AE84-07D2D08A99F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33C4-1900-4CB3-B6AC-1B2A35D6C01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A3087E-39A4-4FFF-98B0-C53FF4EA460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DAA527-D2AB-42AE-9A9E-E0A91C69948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82B682-265D-484C-AA66-97D9447646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800B05-7B0F-4084-AD30-E698DAC4458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8ABF72-76F2-4098-B208-7D83384367A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93570E-E7C1-4776-B274-F265C3F9EF2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953A0C-6AE2-415C-9822-47D7FB920C1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A007F-664B-4119-B0BC-D597CF8C2C5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C529BC-6518-46E1-A0BE-12A27D2C904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251868-0C7E-47A9-829A-A76A27A5696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A79D2-D0BE-4024-BA2B-94CE26FF6E7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806D91-F10C-4027-A0D9-4B7AB3CA13A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918F4-4B83-45CB-8914-F6EABDF0BC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A4DCE-A178-44DF-AF58-5A2FEA518CB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9914B-2024-4104-881D-42EE7F38E68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A42B1-F500-464F-9367-A13807EF57F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CBA11-1541-4429-9F97-0038E459673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02457-F441-4B3F-B7D4-2E489648A34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6FBC1-4E3B-4C4C-AF02-113807AE652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0AC088-D8E3-424C-8960-4BFD4954FE8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3396F-149A-4938-8B5F-37A4720E70A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7EC7A-B2B2-4D98-9A92-E642391F7EB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96571-2252-4D31-BCC8-BB4D5121C5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BD128-5B27-4C53-9CFB-2F38A67E44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2888-30B0-4909-B658-67CCCCDFC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1176-660C-4081-AB11-F70F41CD35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BE2E-414F-4F5C-B87D-0CC67612F4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C788-B620-4F21-8D12-D071A6DEA7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6501-84A2-48CE-A74C-DBB4DFEAAD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73EA-C179-452D-A8E6-FB97CA812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1462-891E-4D63-99DF-ECAE373525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FF70-96FB-4CCD-9A6E-8940D8BD2F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2F59-3BDF-4281-BA2A-C2EBF9BFFC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1498-2B12-411E-AC06-6A16DC8948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5455-2369-42AA-945E-D4321D941C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35E1-95A5-425A-9308-2F0AF2AC17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19A3-60F3-49CA-9117-FF790DD4A3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9E09-4250-481C-ACCC-A00EBC20CD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272-507C-4819-A8A2-3CF35E9545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042-AD08-401E-8A0B-CEE2CCAC76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28D-8201-46C6-AA0B-B8A7BC17E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5A01-85D7-417B-B172-F52160101A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E25-E019-4ECE-9537-B74F2EACB5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4DE-667F-4241-B2D1-E7E8ABABF0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41A-0497-4078-97FF-AFEC3ACD1F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F91-7AA4-4D27-847F-DE0AC819C9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D66-F0CA-4DD2-94F6-C310D26B7D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A45-3E3D-4AE1-832E-8B5B9D3312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DEC-5303-4EC6-BD24-087560525F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25A-8A30-4869-B7DC-6D4EF9978D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144-9C5C-4660-85BB-24AC12504A7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6FD20-8856-4778-96AB-0C6FD07BB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3142-C482-41FE-A9B8-8F50395F915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54097-604B-4719-BCAB-1769057EAD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EE372-5CC1-464B-A4BC-7334D31256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6FCFB-A122-4148-90B7-A9986EEA987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E68EC-FCFE-408C-988F-1A2677C9E29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9AD5D-7565-4230-8EAB-6B10C049E0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9CDA0-636A-4FF9-BA04-1A23D9B162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B04CD-525E-4CC3-948E-1E7F0062E92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8A6D4-2AB8-4F38-9D96-3811939E116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FD5FD-3D64-4C43-AAA6-F2C1C9C715B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C0C58-1DCF-4C6E-9460-12187ED20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DEB5-466C-492E-919A-2956C6D869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7F1BE-D508-4492-B8B1-578BE71C78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39C69-1009-47E7-9F2B-D4A4051A1C0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9CBFD-9860-4E4C-9C8B-2EBE22EC2E4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FD4A4-B295-4D93-8D6D-DDEB30C6D77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EE65D-86C9-4972-8C32-60DF7AC9ED9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35008-C210-4500-9539-3E93B20A5A3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19390-B489-43AC-94EA-C51E8EA1C69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90A08-94CD-49C7-B726-3AAEBCB2FA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9DE6D-8397-4DA3-9D75-4EBF3CD46B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F7270-8756-4EFC-9323-42F8754FF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2BC5-05AB-4715-A50A-4BABC98CB0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904F7-1B58-4A2A-9CFC-0FA07D0451F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CFF3F-4BFC-4349-B288-EB9D22FDAC4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BB3AB-A9C8-41C0-87DC-EB3AD0A49F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63E1-45F4-4119-8C58-9ADF3C894E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17BE-464D-4A85-87C7-58D0883977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1FC4-AE91-4588-9792-7854DAB059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1A31-3AE9-4B1C-A730-2D0011C34B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87B7-3478-43E5-A083-CBFDD20B89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3546-1783-4CD2-B0CD-59C0097CEF1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A824-15B2-4013-865B-92AF021A3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52FB-4ED3-4F2E-A731-E7AAE8F1FC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F3C3-DF98-4579-BEBC-10427AF754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267C-14C2-4BBB-8666-ABDC06DBC55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1384-FE59-4ACB-8524-308546A431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79CD-1AB7-4920-8AEE-C4A803AC94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1CCB-DB0A-421D-881B-C54AFDEFA20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E1F8FF-990A-4B4B-A48B-5C05791814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62870-1113-40BD-BD45-8C25BBB3BE6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3C4A7-2D99-44C5-A248-130D7A7C3AF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AE216-1396-4523-9B0E-1EF26AB52D7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7B795-E664-4628-8113-953D3DF4C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9FA4-FB14-41C8-91CF-17C4DE383A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D0289-89D2-4B3B-8F56-2726D75BED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E21E8C-54D5-41DA-A0B6-01CB174A87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4FC983-19AE-4168-B40F-54B84F4379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86A21-14CD-4C4D-86F9-D8870B4D859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B8D33-802F-4363-AE0F-26AEAC18942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2CD31-E732-45B7-87D1-5D014F7A65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0C8CC-4D6A-4E4C-8FC5-CC0843E0450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430A8-F8E6-4A07-81E9-E407F085DD4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A7C6C-0C9C-46D1-B718-F88969D50B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DC9BF-CD0B-47FE-8C8C-B083FA203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42E6386-08C6-4A94-B40E-407A6A38ED2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9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636E81A-531E-47E2-AE32-8331F4C4F4F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0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6EEE0CA-20ED-49BE-84A6-0BB37D52E32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1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F8772D0-67FA-4EC7-AC14-05C7D0DFD9C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1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BB3525E-92A0-4E51-846D-34C34ECC734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81B16F4-DC8A-46B8-B604-FD061641E2E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1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6A87CB2-62AD-428E-BA7E-3DD510780E2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7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1295280" y="3124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5867280" y="38088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3200400" y="4343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828800" y="5029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kLehrerTag  ILT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rafik 13" descr=""/>
          <p:cNvPicPr/>
          <p:nvPr/>
        </p:nvPicPr>
        <p:blipFill>
          <a:blip r:embed="rId2"/>
          <a:stretch/>
        </p:blipFill>
        <p:spPr>
          <a:xfrm>
            <a:off x="9360" y="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AEB62B8-C52D-4ED2-B9B2-7DA7937344E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FED036E-2F4F-4459-B74B-06589145E65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4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B68BF68-4A32-4D26-8AE6-73AB478CE42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7F6F5F1-67A8-4FAB-BBF8-DC6DABA86DD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6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6FBA8ED-4C60-4623-A86F-E8E534DFC23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FFCA30A-5C0F-40B1-B870-66BE9E6EEE7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Grafik 8" descr=""/>
          <p:cNvPicPr/>
          <p:nvPr/>
        </p:nvPicPr>
        <p:blipFill>
          <a:blip r:embed="rId2"/>
          <a:stretch/>
        </p:blipFill>
        <p:spPr>
          <a:xfrm>
            <a:off x="0" y="6095880"/>
            <a:ext cx="5076720" cy="7621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8"/>
          </p:nvPr>
        </p:nvSpPr>
        <p:spPr>
          <a:xfrm>
            <a:off x="556236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BE9562F-4773-4B86-B8D9-0CCC092EDCF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5"/>
          <p:cNvSpPr/>
          <p:nvPr/>
        </p:nvSpPr>
        <p:spPr>
          <a:xfrm>
            <a:off x="1417680" y="19321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prachen und Automa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deen für offenen Unterricht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n der Sekundarstuf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65C8D6B-4CA7-4F1E-8A4A-775FFDD53E9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644D78C-27A3-4966-B1C7-30D54FE74BD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84360" y="1773360"/>
          <a:ext cx="7772400" cy="4201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uptfach zusätzl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Vergleich natürlicher und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yntax und Semantik, zustandsorientierte Modell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ammatiken und formale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uring- oder Registermasch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mplexitätsklassen!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onstruktion formaler Spr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bfbfb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sammenhang Automat, Gram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0" name="Text Box 14"/>
          <p:cNvSpPr/>
          <p:nvPr/>
        </p:nvSpPr>
        <p:spPr>
          <a:xfrm>
            <a:off x="720720" y="1079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575AE3B-F0C4-4422-B4F5-B8E715EF6BF2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orgaben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20360" y="1152360"/>
            <a:ext cx="845964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ntwicklung eines breiten Verständnisses für Sprach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 genügt Regeln zur Bildung von Wörtern und Sätz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prachen werden durch Grammatiken formalisier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ogrammiersprachen zum Lösen von Problem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führung Automatenmodell, Zustandsorientierte Modellierung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012871E-7CF0-449A-A052-9DE6A2708F3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Vergleich Rahmenplan, KC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20720" y="10792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Kerncurriculum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Mögliche Kontex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Robot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Implementierung von Automa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Kellerautoma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CHOMSKY-Hierarchi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E24FFDD-54B7-45C0-90AD-62C573A151FD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dd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6BDD613-4991-499B-9AAA-59EE6CCCF7C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1908000" y="2708280"/>
            <a:ext cx="63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800" spc="-1" strike="noStrike">
                <a:solidFill>
                  <a:srgbClr val="dd0000"/>
                </a:solidFill>
                <a:latin typeface="Arial"/>
              </a:rPr>
              <a:t>Motivatio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5420160" y="5877000"/>
            <a:ext cx="370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hilberer.com/blog/archive/2007_02_01_arch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liennummernplatzhalter 5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62CBDF06-A2BF-47CA-86A5-DF3C433D69B5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72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eale Automaten Fotos und Film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88" name="Picture 25" descr="Cartoon"/>
          <p:cNvPicPr/>
          <p:nvPr/>
        </p:nvPicPr>
        <p:blipFill>
          <a:blip r:embed="rId1"/>
          <a:stretch/>
        </p:blipFill>
        <p:spPr>
          <a:xfrm>
            <a:off x="1428840" y="1714680"/>
            <a:ext cx="64785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5E7BF25-8BF6-4732-B4A8-31C4C44AE42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26920" y="1052280"/>
            <a:ext cx="749016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r>
              <a:rPr b="0" lang="de-DE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(oder Fahrer und KFZ-Navigationssystem) fahren zwischen drei Orten A, B, C hin und her. Der Beifahrer gibt Anweisungen, und der Fahrer fährt. Er mag aber den Ort B nicht besonders. Der Beifahrer kennt nur drei Sätze: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A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B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Helvetica Neue"/>
              </a:rPr>
              <a:t>fahre nach C</a:t>
            </a: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. Der Fahrer befolgt meistens die Anweisungen, aber manchmal auch nicht, je nachdem, in welchem Ort sie sich gerade befind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elvetica Neue"/>
              </a:rPr>
              <a:t>Das Verhalten des Fahrers kann man als Graphen darstellen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207760" y="582948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4CB15B97-5BB4-4E97-9079-1E53C230597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26920" y="1125000"/>
            <a:ext cx="749016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Fahrer und Beifahr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5209560" y="5850000"/>
            <a:ext cx="391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phil.uni-passau.de/linguistik/sommercamp/automa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7" descr="endlicher Automat"/>
          <p:cNvPicPr/>
          <p:nvPr/>
        </p:nvPicPr>
        <p:blipFill>
          <a:blip r:embed="rId1"/>
          <a:stretch/>
        </p:blipFill>
        <p:spPr>
          <a:xfrm>
            <a:off x="836640" y="1863720"/>
            <a:ext cx="7056360" cy="41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398EF96-C802-4D1C-883E-FAAB834285E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1" name="AutoShape 44"/>
          <p:cNvSpPr/>
          <p:nvPr/>
        </p:nvSpPr>
        <p:spPr>
          <a:xfrm>
            <a:off x="2133720" y="1828800"/>
            <a:ext cx="4876560" cy="35053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45"/>
          <p:cNvSpPr/>
          <p:nvPr/>
        </p:nvSpPr>
        <p:spPr>
          <a:xfrm>
            <a:off x="4848120" y="426708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Getränkeaut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7"/>
          <p:cNvSpPr/>
          <p:nvPr/>
        </p:nvSpPr>
        <p:spPr>
          <a:xfrm>
            <a:off x="2363040" y="2133720"/>
            <a:ext cx="10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l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8"/>
          <p:cNvSpPr/>
          <p:nvPr/>
        </p:nvSpPr>
        <p:spPr>
          <a:xfrm>
            <a:off x="3354480" y="2133720"/>
            <a:ext cx="36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9"/>
          <p:cNvSpPr/>
          <p:nvPr/>
        </p:nvSpPr>
        <p:spPr>
          <a:xfrm>
            <a:off x="4876920" y="2286000"/>
            <a:ext cx="8380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50"/>
          <p:cNvSpPr/>
          <p:nvPr/>
        </p:nvSpPr>
        <p:spPr>
          <a:xfrm>
            <a:off x="5165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1"/>
          <p:cNvSpPr/>
          <p:nvPr/>
        </p:nvSpPr>
        <p:spPr>
          <a:xfrm>
            <a:off x="4878000" y="2590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2"/>
          <p:cNvSpPr/>
          <p:nvPr/>
        </p:nvSpPr>
        <p:spPr>
          <a:xfrm>
            <a:off x="4726080" y="5257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3"/>
          <p:cNvSpPr/>
          <p:nvPr/>
        </p:nvSpPr>
        <p:spPr>
          <a:xfrm>
            <a:off x="2286000" y="1981080"/>
            <a:ext cx="3657600" cy="17528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54"/>
          <p:cNvGrpSpPr/>
          <p:nvPr/>
        </p:nvGrpSpPr>
        <p:grpSpPr>
          <a:xfrm>
            <a:off x="5143680" y="4619520"/>
            <a:ext cx="490320" cy="533520"/>
            <a:chOff x="5143680" y="4619520"/>
            <a:chExt cx="490320" cy="533520"/>
          </a:xfrm>
        </p:grpSpPr>
        <p:sp>
          <p:nvSpPr>
            <p:cNvPr id="712" name="AutoShape 55"/>
            <p:cNvSpPr/>
            <p:nvPr/>
          </p:nvSpPr>
          <p:spPr>
            <a:xfrm>
              <a:off x="5143680" y="4619520"/>
              <a:ext cx="490320" cy="533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6"/>
            <p:cNvSpPr/>
            <p:nvPr/>
          </p:nvSpPr>
          <p:spPr>
            <a:xfrm>
              <a:off x="5229000" y="4800600"/>
              <a:ext cx="326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57"/>
            <p:cNvSpPr/>
            <p:nvPr/>
          </p:nvSpPr>
          <p:spPr>
            <a:xfrm>
              <a:off x="5238720" y="4876920"/>
              <a:ext cx="30456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58"/>
            <p:cNvSpPr/>
            <p:nvPr/>
          </p:nvSpPr>
          <p:spPr>
            <a:xfrm>
              <a:off x="5210280" y="4724280"/>
              <a:ext cx="3646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59"/>
          <p:cNvSpPr/>
          <p:nvPr/>
        </p:nvSpPr>
        <p:spPr>
          <a:xfrm>
            <a:off x="2146680" y="5846760"/>
            <a:ext cx="69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ite.fh-wiesbaden.de/~herber/skript/Theorie%20und%20Anwendungen%20von%20Finite%20State%20Machines.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C8526FC-FF80-4AAE-A28E-61046E9F5E71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3C6C62EC-4001-40BB-8D3B-D3FD595F942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826920" y="148428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00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mouse"/>
          <p:cNvPicPr/>
          <p:nvPr/>
        </p:nvPicPr>
        <p:blipFill>
          <a:blip r:embed="rId1"/>
          <a:stretch/>
        </p:blipFill>
        <p:spPr>
          <a:xfrm>
            <a:off x="609480" y="1446120"/>
            <a:ext cx="2667240" cy="198288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Mausefal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5029200" y="1752480"/>
            <a:ext cx="2590920" cy="1295640"/>
            <a:chOff x="5029200" y="1752480"/>
            <a:chExt cx="2590920" cy="1295640"/>
          </a:xfrm>
        </p:grpSpPr>
        <p:sp>
          <p:nvSpPr>
            <p:cNvPr id="724" name="Rectangle 8"/>
            <p:cNvSpPr/>
            <p:nvPr/>
          </p:nvSpPr>
          <p:spPr>
            <a:xfrm>
              <a:off x="5029200" y="1752480"/>
              <a:ext cx="2590920" cy="1295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9"/>
            <p:cNvSpPr/>
            <p:nvPr/>
          </p:nvSpPr>
          <p:spPr>
            <a:xfrm>
              <a:off x="5149440" y="1806480"/>
              <a:ext cx="1265400" cy="1133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6836760" y="2130480"/>
              <a:ext cx="783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6294600" y="1860480"/>
              <a:ext cx="300960" cy="9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5088960" y="2346480"/>
              <a:ext cx="19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6957360" y="2238120"/>
              <a:ext cx="60120" cy="27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059080" y="2283480"/>
              <a:ext cx="59760" cy="16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Oval 15"/>
          <p:cNvSpPr/>
          <p:nvPr/>
        </p:nvSpPr>
        <p:spPr>
          <a:xfrm>
            <a:off x="2362320" y="383544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e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16"/>
          <p:cNvCxnSpPr>
            <a:stCxn id="731" idx="2"/>
            <a:endCxn id="731" idx="1"/>
          </p:cNvCxnSpPr>
          <p:nvPr/>
        </p:nvCxnSpPr>
        <p:spPr>
          <a:xfrm flipH="1" rot="10800000">
            <a:off x="2361960" y="4023720"/>
            <a:ext cx="189360" cy="459360"/>
          </a:xfrm>
          <a:prstGeom prst="curvedConnector5">
            <a:avLst>
              <a:gd name="adj1" fmla="val -296571"/>
              <a:gd name="adj2" fmla="val 77960"/>
              <a:gd name="adj3" fmla="val -29657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Oval 17"/>
          <p:cNvSpPr/>
          <p:nvPr/>
        </p:nvSpPr>
        <p:spPr>
          <a:xfrm>
            <a:off x="5029200" y="3835440"/>
            <a:ext cx="129528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-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p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AutoShape 18"/>
          <p:cNvCxnSpPr>
            <a:stCxn id="731" idx="5"/>
            <a:endCxn id="733" idx="3"/>
          </p:cNvCxnSpPr>
          <p:nvPr/>
        </p:nvCxnSpPr>
        <p:spPr>
          <a:xfrm flipH="1" rot="16200000">
            <a:off x="4342320" y="4067280"/>
            <a:ext cx="2520" cy="1750320"/>
          </a:xfrm>
          <a:prstGeom prst="curvedConnector5">
            <a:avLst>
              <a:gd name="adj1" fmla="val 26300000"/>
              <a:gd name="adj2" fmla="val 49989"/>
              <a:gd name="adj3" fmla="val 26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AutoShape 19"/>
          <p:cNvCxnSpPr>
            <a:stCxn id="733" idx="4"/>
            <a:endCxn id="733" idx="6"/>
          </p:cNvCxnSpPr>
          <p:nvPr/>
        </p:nvCxnSpPr>
        <p:spPr>
          <a:xfrm flipH="1" flipV="1" rot="5400000">
            <a:off x="5675760" y="4482360"/>
            <a:ext cx="648360" cy="648360"/>
          </a:xfrm>
          <a:prstGeom prst="curvedConnector5">
            <a:avLst>
              <a:gd name="adj1" fmla="val -67888"/>
              <a:gd name="adj2" fmla="val 78666"/>
              <a:gd name="adj3" fmla="val -678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Text Box 20"/>
          <p:cNvSpPr/>
          <p:nvPr/>
        </p:nvSpPr>
        <p:spPr>
          <a:xfrm>
            <a:off x="3655800" y="5373720"/>
            <a:ext cx="15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-3240" y="386064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6502320" y="515772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 n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AutoShape 23"/>
          <p:cNvCxnSpPr>
            <a:stCxn id="733" idx="7"/>
            <a:endCxn id="733" idx="1"/>
          </p:cNvCxnSpPr>
          <p:nvPr/>
        </p:nvCxnSpPr>
        <p:spPr>
          <a:xfrm rot="5400000">
            <a:off x="5675400" y="3566160"/>
            <a:ext cx="2160" cy="918360"/>
          </a:xfrm>
          <a:prstGeom prst="curvedConnector5">
            <a:avLst>
              <a:gd name="adj1" fmla="val -44600000"/>
              <a:gd name="adj2" fmla="val 50000"/>
              <a:gd name="adj3" fmla="val -446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0" name="Text Box 24"/>
          <p:cNvSpPr/>
          <p:nvPr/>
        </p:nvSpPr>
        <p:spPr>
          <a:xfrm>
            <a:off x="6018120" y="2997360"/>
            <a:ext cx="16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kom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us nicht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5500800" y="1285920"/>
            <a:ext cx="3181320" cy="4357800"/>
          </a:xfrm>
          <a:prstGeom prst="rect">
            <a:avLst/>
          </a:prstGeom>
          <a:ln w="0">
            <a:noFill/>
          </a:ln>
        </p:spPr>
      </p:pic>
      <p:sp>
        <p:nvSpPr>
          <p:cNvPr id="74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FBB67D6-9CCF-473A-B595-BEE64B254DC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Motivierende Beispiele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560" y="1484280"/>
            <a:ext cx="474516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ine Digitaluhr hat eine Anzeige und zwei Schaltknöpfe A und B. Im Normalzustand zeigt die Uhr die Zeit an,in den beiden Einstellzuständen kann man die Stunden bzw. Minuten ein stellen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Jemand drückt die Schaltknöpfe i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folgender Reihenfolge: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1) ABABBBAAB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2) ABAABABA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rläutere, was in  den beiden Fäll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assiert.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2541240" y="6237360"/>
            <a:ext cx="488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ite.fh-wiesbaden.de/~herber/skript/Theorie und Anwendungen von Finite State Machines.p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7858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Digitaluh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2"/>
          <a:stretch/>
        </p:blipFill>
        <p:spPr>
          <a:xfrm>
            <a:off x="5429160" y="1143000"/>
            <a:ext cx="10861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06B43E0B-9571-4458-A6B2-10896C01F91E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2D1B59B-5384-4636-BD50-F98DB7C8784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20720" y="1079640"/>
            <a:ext cx="7704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lle: http://www.teachsam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sp>
        <p:nvSpPr>
          <p:cNvPr id="75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B8561495-73E8-4C39-80DD-1FA566262207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8" name="Text Box 3"/>
          <p:cNvSpPr/>
          <p:nvPr/>
        </p:nvSpPr>
        <p:spPr>
          <a:xfrm>
            <a:off x="720720" y="1079640"/>
            <a:ext cx="56516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Geschloss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einzelnen Stationen bauen aufeinander au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müssen in einer vorgegeben Reihenfolge bearbeitet we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7571160" y="584676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EDF1B168-E8FB-4E6A-8274-867C8E5B52F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720720" y="1079640"/>
            <a:ext cx="41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ari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lernzirkel_grundschema"/>
          <p:cNvPicPr/>
          <p:nvPr/>
        </p:nvPicPr>
        <p:blipFill>
          <a:blip r:embed="rId1"/>
          <a:stretch/>
        </p:blipFill>
        <p:spPr>
          <a:xfrm>
            <a:off x="5143680" y="1857240"/>
            <a:ext cx="3497040" cy="3961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lernzirkel_variabel"/>
          <p:cNvPicPr/>
          <p:nvPr/>
        </p:nvPicPr>
        <p:blipFill>
          <a:blip r:embed="rId2"/>
          <a:srcRect l="3296" t="7289" r="3394" b="6740"/>
          <a:stretch/>
        </p:blipFill>
        <p:spPr>
          <a:xfrm>
            <a:off x="2143080" y="1714680"/>
            <a:ext cx="6072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5" descr="lermzirkel_offen"/>
          <p:cNvPicPr/>
          <p:nvPr/>
        </p:nvPicPr>
        <p:blipFill>
          <a:blip r:embed="rId1"/>
          <a:srcRect l="4607" t="0" r="0" b="0"/>
          <a:stretch/>
        </p:blipFill>
        <p:spPr>
          <a:xfrm>
            <a:off x="4309920" y="1357200"/>
            <a:ext cx="4548240" cy="4015080"/>
          </a:xfrm>
          <a:prstGeom prst="rect">
            <a:avLst/>
          </a:prstGeom>
          <a:ln w="0">
            <a:noFill/>
          </a:ln>
        </p:spPr>
      </p:pic>
      <p:sp>
        <p:nvSpPr>
          <p:cNvPr id="767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777886E-C070-401C-AD15-5FE1584AAE0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720720" y="1079640"/>
            <a:ext cx="3959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Offen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e Schüler dürfen frei wählen, in welcher Reihenfolge sie die Stationen bearbeiten wo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lernzirkel_doppelzirkel"/>
          <p:cNvPicPr/>
          <p:nvPr/>
        </p:nvPicPr>
        <p:blipFill>
          <a:blip r:embed="rId1"/>
          <a:stretch/>
        </p:blipFill>
        <p:spPr>
          <a:xfrm>
            <a:off x="4357800" y="1571760"/>
            <a:ext cx="4427280" cy="3673440"/>
          </a:xfrm>
          <a:prstGeom prst="rect">
            <a:avLst/>
          </a:prstGeom>
          <a:ln w="0">
            <a:noFill/>
          </a:ln>
        </p:spPr>
      </p:pic>
      <p:sp>
        <p:nvSpPr>
          <p:cNvPr id="77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38E7DB1-0742-4F03-B074-DDA80645DFD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 Form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720720" y="1079640"/>
            <a:ext cx="644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Unterteilter Lernzirk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teilung in inn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äußeren Zirk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hlprogramm (Addi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flichtprogramm (Fundamen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19B44BDE-BBDA-489D-847F-B5F880B6A69C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720720" y="1079640"/>
            <a:ext cx="80722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Feste (fixe) 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ationen, die an einer bestimmten Stelle aufgebaut sind und an denen selbst die Arbeitsaufgabe bewältigt werden mus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45EADC0-E5B9-441D-8F57-E07B35AD245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20720" y="1000080"/>
            <a:ext cx="395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Außens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5" descr="lernzirkel_aussenstationen"/>
          <p:cNvPicPr/>
          <p:nvPr/>
        </p:nvPicPr>
        <p:blipFill>
          <a:blip r:embed="rId1"/>
          <a:srcRect l="0" t="4438" r="0" b="6836"/>
          <a:stretch/>
        </p:blipFill>
        <p:spPr>
          <a:xfrm>
            <a:off x="1643040" y="1500120"/>
            <a:ext cx="6407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EF08264-773B-4C10-9ED0-CF8FAA9E296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719FDE7B-B52E-459A-9853-7CBC81DE30D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720720" y="1079640"/>
            <a:ext cx="8072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arallel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4834783-7DE4-4F56-9026-D59082989C00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720720" y="1079640"/>
            <a:ext cx="3959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Pufferstation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 ihnen liegt Arbeitsmaterial in mehrfacher Ausführung 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7800" y="1214280"/>
            <a:ext cx="4276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5EBA2DC1-8FAF-40F5-A4B9-AB3348754123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20720" y="1079640"/>
            <a:ext cx="8315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Vorteile</a:t>
            </a:r>
            <a:br>
              <a:rPr sz="2000"/>
            </a:br>
            <a:br>
              <a:rPr sz="20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inzip der Binnendifferenz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es, selbstständiges und selbstgesteuert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gen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kompe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ungs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alkompetenz und Gruppendynam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ungsmöglichkeit einzelner Schüler durch den Lehrer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7571160" y="5850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885EB721-19DA-44D2-8CA4-A079E241B476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Stationenlern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7571160" y="5877000"/>
            <a:ext cx="15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ttp://www.teachsam.d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hteck 6"/>
          <p:cNvSpPr/>
          <p:nvPr/>
        </p:nvSpPr>
        <p:spPr>
          <a:xfrm>
            <a:off x="720720" y="1079640"/>
            <a:ext cx="77868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99cc00"/>
                </a:solidFill>
                <a:latin typeface="Arial"/>
              </a:rPr>
              <a:t>Nachteile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Disziplinbedar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raftaufwand und Optimismus von Seiten des Lehr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aue, zeitaufwendige Plan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her Materialaufwa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ößerer Platz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Foliennummernplatzhalter 4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D1F394C-AA66-4C14-9634-3B203E7A64B4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38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Helvetica Neue"/>
              </a:rPr>
              <a:t>Vielen Dank für die Aufmerksamkeit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1403280" y="2795760"/>
            <a:ext cx="63309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F96894A9-6631-434A-BB7B-54B11B996C9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http://upload.wikimedia.org/wikipedia/commons/thumb/9/93/Karte_Deutsche_Bundesl%C3%A4nder_%28nummeriert%29.svg/281px-Karte_Deutsche_Bundesl%C3%A4nder_%28nummeriert%29.svg.png"/>
          <p:cNvPicPr/>
          <p:nvPr/>
        </p:nvPicPr>
        <p:blipFill>
          <a:blip r:embed="rId1"/>
          <a:stretch/>
        </p:blipFill>
        <p:spPr>
          <a:xfrm>
            <a:off x="142920" y="822240"/>
            <a:ext cx="2676600" cy="36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8" name=""/>
          <p:cNvGraphicFramePr/>
          <p:nvPr/>
        </p:nvGraphicFramePr>
        <p:xfrm>
          <a:off x="2627280" y="930240"/>
          <a:ext cx="6480360" cy="5156280"/>
        </p:xfrm>
        <a:graphic>
          <a:graphicData uri="http://schemas.openxmlformats.org/drawingml/2006/table">
            <a:tbl>
              <a:tblPr/>
              <a:tblGrid>
                <a:gridCol w="287280"/>
                <a:gridCol w="1513080"/>
                <a:gridCol w="3529080"/>
                <a:gridCol w="1150920"/>
              </a:tblGrid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r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ndesland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Lehrplaninhalt (Lernberei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Pflicht-bestandte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den-Württembe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ereich der theoretischen Informatik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(Automaten, Berechenbarkei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ay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3. Formale Sprachen (noch Entwur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erl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Brandenbur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reme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undlagen der Theoretischen Informatik (Automaten, formale Sprach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Hamburg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Formale Sprachen, endliche Automaten, Keller-automaten, Scanner, Parser, Ableitungsba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Hes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Grammatiken  Automaten, 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Mecklenburg-Vorpomme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4.4 Sprachen und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 </a:t>
                      </a: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F)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ieder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igenschaften endlicher Autom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spekte formaler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ordrhein-Westfal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Rheinland-Pfal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ormale Sprachen und Automaten zur Sprachbeschreibung und Spracherkennung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nur L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Saarla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Automaten und formale Sprachen </a:t>
                      </a:r>
                      <a:br>
                        <a:rPr sz="1200"/>
                      </a:b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Fakultativ: Übersetzerb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e36b6b"/>
                          </a:solidFill>
                          <a:latin typeface="Helvetica Neue"/>
                        </a:rPr>
                        <a:t>ja (auch G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8 A: Formale Sprachen, Kellerautomat, Akzep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achsen-Anhal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,Bold"/>
                        </a:rPr>
                        <a:t>Endliche Automaten und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chleswig-Holste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Automaten als mögliches Themengebi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üring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Themenbereich 7.3: Einblick in formale Spra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nein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C80F7100-8B69-438F-A504-81C051BDD29F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Übersich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Automaten und Sprachen wo noch?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00000"/>
                </a:solidFill>
                <a:latin typeface="Helvetica Neue"/>
              </a:rPr>
              <a:t>Eingangsvoraussetz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gaben des KC Unterschiede F - H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Motivation Automaten und Sprac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7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Helvetica Neue"/>
              </a:rPr>
              <a:t>Vorstellung Stationenler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DD32CFC0-169F-4957-9072-31CFF117D658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5- 7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prüfen vorgegebene E-Mail- und WWW-Adressen auf Korrektheit und geben korrekte E-Mail- und WWW-Adressen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zeichnen Dateien problemadäquat und ordnen gängigen Dateinamenserweiterungen passende Anwendungen zu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überführen umgangssprachlich gegebeneHandlungsvorschriften in formale Darstellu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stellen Objekte der jeweiligen Anwendung in einer geeigneten Form da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A80046ED-6F88-422B-B476-00A24AD0DB0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Bildungsstandards Informatik ( 8-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ben Problemlösungen in einer Dokumentenbeschreibungssprache, Abfragesprache oder Programmiersprache a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unterscheiden die Begriffe »Syntax« und »Semantik« und erläutern sie an Beispie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terpretieren Fehlermeldungen bei der Arbeit mit Informatiksystemen und nutzen sie produktiv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440" y="1066680"/>
            <a:ext cx="84582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Informationsverarbeitende Prozesse er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verschiedene Möglichkeiten der Repräsentation von Informationen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Begriffe wie Zeichen, Zeichenfolge, Wort, Satz, Alphabet, Grammatik, Sprache, Syntax und Semantik kennen und diese auf natürliche Sprachen, Fachsprachen und Programmiersprachen anwen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Gemeinsames und Trennendes von natürlichen Sprachen, Fachsprachen und Programmiersprachen kenn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0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817FF11-71EA-4B23-8CA0-DE8E61A8046A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liennummernplatzhalter 3"/>
          <p:cNvSpPr/>
          <p:nvPr/>
        </p:nvSpPr>
        <p:spPr>
          <a:xfrm>
            <a:off x="5562720" y="620712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Folie </a:t>
            </a:r>
            <a:fld id="{92AE1524-276B-45EA-82BD-CACCB048E8E9}" type="slidenum"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elvetica Neue"/>
              </a:rPr>
              <a:t>Monika Klaaßen, Silke Herb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Helvetica Neue"/>
              </a:rPr>
              <a:t>Eingangsvorausetzungen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Helvetica Neue"/>
              </a:rPr>
              <a:t>Rahmenplan Informatik (7 - 10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Helvetica Neue"/>
              </a:rPr>
              <a:t>Sachkompetenz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E-V-A-Prinzip der Informationsverarbeitung ken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Helvetica Neue"/>
              </a:rPr>
              <a:t>Pragmatik als Wesenszug natürlicher Sprachen charakterisier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8:04:09Z</dcterms:created>
  <dc:creator>Daniel Westhoff</dc:creator>
  <dc:description/>
  <dc:language>en-US</dc:language>
  <cp:lastModifiedBy>Silke Herbst</cp:lastModifiedBy>
  <dcterms:modified xsi:type="dcterms:W3CDTF">2011-04-12T17:27:49Z</dcterms:modified>
  <cp:revision>77</cp:revision>
  <dc:subject/>
  <dc:title>PowerPoint-Präsentation</dc:title>
</cp:coreProperties>
</file>