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C4F7-037E-4D12-A242-48685A515D5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8174-B48F-4745-B679-87D4AA1F27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74E1-F7CD-4657-A6D4-E2CE7C011E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3A31-CAB9-4A65-A3A1-52B33FD89D6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7613-E824-4615-B74D-4341C59ECEB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E73B-8782-47B7-A0CA-9714F5FA58E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092A-9366-4247-A3B8-A59B63031F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FCA3-8003-43A1-A20F-148D28FE430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42F7-9F64-4B3E-8662-71BA8DD1C50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F304-FE8E-4FE9-BCEB-D90AA973781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FDAA-2A6C-4A4C-9E93-03F9066BBB3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EF23-0C78-4BE8-9E79-335EA274A07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F956-765D-4249-865A-03DE6ED0B0D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7EA3-9FAE-4450-A9E7-8B1E31E415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6C4E-466C-4360-916B-41B464E408A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75B9-446A-402F-8992-EB4B3843E43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2551-0532-4400-86F7-7BD753F406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7C19-C342-40A6-9062-F9A97431493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7CA-A706-4CBD-B599-8C987ADD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B7A-FDDB-4B78-8B9A-7849FE40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DD2-64C6-4561-AD79-20F5397F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8779-F31C-445C-97AB-8A767E83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90CB-BC03-4AF7-8F92-A1BC6EFD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2605-93DC-46BB-BD09-502B401A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E3D5-5AE8-40FD-A940-4263D17E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0CFC-3B9E-4CFA-A338-B089A57E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85C3-A254-40C4-8446-EC150197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6149-2B83-486D-AA67-D6D8F235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C8B3-E16E-4FC9-BB27-B779236F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160-66FE-48BC-A961-92C22616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0E3E-2BEE-4595-BF27-322E138B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AB97-2EC6-417C-A959-AE1EC01D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5515-F5FA-4A96-AD29-6454043E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A676-4A44-477A-94C0-8B8CD526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08E2-0F9A-4885-9CD6-408018F0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1D5-5908-412D-BB4E-53A1EF10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F9B-DD20-4643-973E-F1CFF038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981-CEDA-4A72-944C-988D1F45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23D-5208-4258-A9B4-443883F1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FBE-CE96-4A2F-A395-09E7FE20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EB8-FA7A-4964-A770-9FF33857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E87-5529-45FE-8DB4-1CBEA4AE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6B3E-E37C-480D-B215-4740BC7E93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FB17-3F4C-4394-AE02-AD922B944B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0000"/>
                </a:solidFill>
                <a:latin typeface="Comic Sans MS"/>
              </a:rPr>
              <a:t>Lernzirkel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ine Form des offenen Unterrich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Puffer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An ihnen liegt Arbeitsmaterial in mehrfacher Ausführung a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5" descr="lernzirkel_pufferstation"/>
          <p:cNvPicPr/>
          <p:nvPr/>
        </p:nvPicPr>
        <p:blipFill>
          <a:blip r:embed="rId1"/>
          <a:stretch/>
        </p:blipFill>
        <p:spPr>
          <a:xfrm>
            <a:off x="4356000" y="2060640"/>
            <a:ext cx="4276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Kontrollst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Hier liegen Materialien aus, mit denen Schüler ihre Arbeitsergebnisse vergleichen könne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5" descr="lernzirkel_kontrol-service"/>
          <p:cNvPicPr/>
          <p:nvPr/>
        </p:nvPicPr>
        <p:blipFill>
          <a:blip r:embed="rId1"/>
          <a:stretch/>
        </p:blipFill>
        <p:spPr>
          <a:xfrm>
            <a:off x="4284720" y="1916280"/>
            <a:ext cx="419904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Servicest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bietet Schülern die Möglichkeit, sich über Bücher, Internet… mit Wissen zu versorge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5" descr="lernzirkel_kontrol-service"/>
          <p:cNvPicPr/>
          <p:nvPr/>
        </p:nvPicPr>
        <p:blipFill>
          <a:blip r:embed="rId1"/>
          <a:stretch/>
        </p:blipFill>
        <p:spPr>
          <a:xfrm>
            <a:off x="4500720" y="1916280"/>
            <a:ext cx="40590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Comic Sans MS"/>
              </a:rPr>
              <a:t>Gestaltung &amp; Durchführu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uswahl des Them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inteilung der Stationen und Planung von Ziel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Beschaffung und Erstellen von Arbeitsmater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rstellen und Gestalten der Station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estlegen von Form u. Strukturen des Lernzirk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Wahl der Sozial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rt, wie Schüler Arbeitsanweisungen erhalten, festle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ormulierung der Arbeitsaufträg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estlegen von Verhaltensregel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tationen aufbau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instie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7920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rarbeitun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090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020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Vertiefungs- /Sicherun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841536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or- und Nachte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572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Vorteile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Prinzip der Binnendifferenzieru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ndividuelles, selbstständiges und selbstgesteuertes Lern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igenmotiv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ethodenkompeten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andlungsorientieru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ozialkompetenz u. Gruppendynami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örderungsmöglichkeit einzelner Schüler durch den Lehrer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6000" y="1412640"/>
            <a:ext cx="42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             </a:t>
            </a: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Nachte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roßer Disziplinbedar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Kraftaufwand und Optimismus von Seiten des Lehr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enaue, zeitaufwendige Planu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oher Materialaufw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rößerer Platzbedar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efahr der Überforderung schwächerer Schü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Was ist ein Lernzirkel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er Lernzirkel, auch Stationenlernen genannt, bezeichnet eine Lehrtechnik, bei der die Schüler in der Regel selbstständig und eigentätig anhand vorbereiteter Materialien, die in Stationen angeordnet sind, lern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</a:t>
            </a:r>
            <a:r>
              <a:rPr b="0" lang="de-DE" sz="44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536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Geschlossener Lernzirkel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ie einzelnen Stationen bauen aufeinander auf und müssen in einer vorgegeben Reihenfolge bearbeitet wer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lernzirkel_grundschema"/>
          <p:cNvPicPr/>
          <p:nvPr/>
        </p:nvPicPr>
        <p:blipFill>
          <a:blip r:embed="rId1"/>
          <a:stretch/>
        </p:blipFill>
        <p:spPr>
          <a:xfrm>
            <a:off x="5095800" y="2060640"/>
            <a:ext cx="3497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Vari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lernzirkel_variabel"/>
          <p:cNvPicPr/>
          <p:nvPr/>
        </p:nvPicPr>
        <p:blipFill>
          <a:blip r:embed="rId1"/>
          <a:stretch/>
        </p:blipFill>
        <p:spPr>
          <a:xfrm>
            <a:off x="2050920" y="1700280"/>
            <a:ext cx="6507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4211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Offener Lernzirk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ie Schüler dürfen frei wählen, in welcher Reihenfolge sie die Stationen bearbeiten woll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lermzirkel_offen"/>
          <p:cNvPicPr/>
          <p:nvPr/>
        </p:nvPicPr>
        <p:blipFill>
          <a:blip r:embed="rId1"/>
          <a:stretch/>
        </p:blipFill>
        <p:spPr>
          <a:xfrm>
            <a:off x="4067280" y="2276640"/>
            <a:ext cx="465120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500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Unterteilter Lernzirk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Aufteilung in inneren und äußeren Zirkel, also in Wahl- (=Additum) und Pflichtprogramm (=Fundamentu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5" descr="lernzirkel_doppelzirkel"/>
          <p:cNvPicPr/>
          <p:nvPr/>
        </p:nvPicPr>
        <p:blipFill>
          <a:blip r:embed="rId1"/>
          <a:stretch/>
        </p:blipFill>
        <p:spPr>
          <a:xfrm>
            <a:off x="4572000" y="2421000"/>
            <a:ext cx="4427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Feste (fixe) 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Stationen, die an einer bestimmten Stelle aufgebaut sind und an denen selbst die Arbeitsaufgabe bewältigt werden mus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Außenst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lernzirkel_aussenstationen"/>
          <p:cNvPicPr/>
          <p:nvPr/>
        </p:nvPicPr>
        <p:blipFill>
          <a:blip r:embed="rId1"/>
          <a:stretch/>
        </p:blipFill>
        <p:spPr>
          <a:xfrm>
            <a:off x="1908000" y="1773360"/>
            <a:ext cx="640728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Parallel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s ist sehr sinnvoll, A-, B-, C-Stationen (etc.) anzubieten, an denen jeweils dasselbe Teillernziel über die Beanspruchung unterschiedlicher Sinne oder über unterschiedliche Aktivitätsformen zu erreichen i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11:10:24Z</dcterms:created>
  <dc:creator>Maria Schwab</dc:creator>
  <dc:description/>
  <dc:language>en-US</dc:language>
  <cp:lastModifiedBy>Silke Herbst</cp:lastModifiedBy>
  <dcterms:modified xsi:type="dcterms:W3CDTF">2011-03-29T18:54:56Z</dcterms:modified>
  <cp:revision>4</cp:revision>
  <dc:subject/>
  <dc:title>Lernzirkel</dc:title>
</cp:coreProperties>
</file>