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8.png" ContentType="image/png"/>
  <Override PartName="/ppt/media/image7.jpeg" ContentType="image/jpeg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4AB3-0399-4871-9024-79EE7E246C9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CC64-F534-43CD-B35C-E53379C9BD4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DE657-4876-4919-BB72-8490A10D75C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C631-91E6-461F-836B-6108FA20A97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94466-2ED9-409A-91D4-8F6858D0C4C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79311-0704-43B6-9E7D-7C5FC120F0E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7B2B2-B055-4C3E-8216-DA713AEB0DB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33E0-7310-4FB5-9949-BDEF492AEC7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BE9E-8004-4655-BFD6-E24A25C8499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9B35-4E68-424D-8EBF-66A8FE4CE9C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0CEE-C41C-49C8-837C-4F1E1F5C3C3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72AF-6567-42D0-B9A8-223F1CB79EF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B9606-600C-4485-91BC-81E2978AE9F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A61D4-00A8-4EF4-8004-A85DDBD9FED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99714-5FEE-4091-B248-CFF16ABF7FE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FB9E-5F03-43A1-B764-B26BC2EB2A6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8AA9A-55B4-412F-9868-E6A19984B9C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D126-9764-4340-A7C2-6203F0025DC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C943-28F0-4FD7-8C78-FBA80B6DE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9572-BA1E-44BD-A00B-E11F35C0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2A22-E3E6-42A6-B998-6E7A2589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9067-219D-4A68-A031-58FC3667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01C1-562C-425D-9FA3-2393BC52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B7CA0-4DC9-4FC0-A0B4-3444F490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8686-F0EB-4B6A-A434-31C83CE1E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8EA1-81A2-4475-BD35-6D2EE326B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0794-D0CA-4A99-B6AD-C5735C2F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C950E-75F2-4BA1-8529-56F81AB67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B6DC-B9A2-40D2-A591-BCD6AFE8C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3980-A7FA-46FC-B4AC-CB2AB0865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0814D-2DE8-4017-8168-DAC176979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CDFB4-FD2F-43DF-B305-703F5356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13D2-1526-449F-A78D-552606720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DEB6-9E3A-4D4F-A7C0-F7983863F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7885-66E2-4475-91C4-E6385EC89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A165-2AC7-4062-98A8-6BE20841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2D17-2854-4411-A592-D0E60E3C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5745-2AC7-492E-9FBA-9AD8BE0E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0F83-90D8-47A2-8367-D4A428AC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0E16-3BD2-47F2-B00E-D811EFF0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8057-3ED4-4C11-B8FD-EDB0BF4C1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B9DB-A6EE-4902-8995-727E29BA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859C-EE78-4D02-BAE9-C163ACC2D3E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EEB7-07A9-49AC-8B62-0D8FE65C1FE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32000" y="1413000"/>
            <a:ext cx="6400800" cy="2273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ff0000"/>
                </a:solidFill>
                <a:latin typeface="Comic Sans MS"/>
              </a:rPr>
              <a:t>Lernzirkel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Eine Form des offenen Unterrich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Pufferstatione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703dff"/>
                </a:solidFill>
                <a:latin typeface="Comic Sans MS"/>
              </a:rPr>
              <a:t> 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An ihnen liegt Arbeitsmaterial in mehrfacher Ausführung a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5" descr="lernzirkel_pufferstation"/>
          <p:cNvPicPr/>
          <p:nvPr/>
        </p:nvPicPr>
        <p:blipFill>
          <a:blip r:embed="rId1"/>
          <a:stretch/>
        </p:blipFill>
        <p:spPr>
          <a:xfrm>
            <a:off x="4356000" y="2060640"/>
            <a:ext cx="4276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4000" y="213372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Kontrollstatio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2600" spc="-1" strike="noStrike">
                <a:solidFill>
                  <a:srgbClr val="000000"/>
                </a:solidFill>
                <a:latin typeface="Comic Sans MS"/>
              </a:rPr>
              <a:t>Hier liegen Materialien aus, mit denen Schüler ihre Arbeitsergebnisse vergleichen könne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5" descr="lernzirkel_kontrol-service"/>
          <p:cNvPicPr/>
          <p:nvPr/>
        </p:nvPicPr>
        <p:blipFill>
          <a:blip r:embed="rId1"/>
          <a:stretch/>
        </p:blipFill>
        <p:spPr>
          <a:xfrm>
            <a:off x="4284720" y="1916280"/>
            <a:ext cx="4199040" cy="42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000" y="206064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Servicestatio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2600" spc="-1" strike="noStrike">
                <a:solidFill>
                  <a:srgbClr val="000000"/>
                </a:solidFill>
                <a:latin typeface="Comic Sans MS"/>
              </a:rPr>
              <a:t>bietet Schülern die Möglichkeit, sich über Bücher, Internet… mit Wissen zu versorge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5" descr="lernzirkel_kontrol-service"/>
          <p:cNvPicPr/>
          <p:nvPr/>
        </p:nvPicPr>
        <p:blipFill>
          <a:blip r:embed="rId1"/>
          <a:stretch/>
        </p:blipFill>
        <p:spPr>
          <a:xfrm>
            <a:off x="4500720" y="1916280"/>
            <a:ext cx="4059000" cy="41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0000"/>
                </a:solidFill>
                <a:latin typeface="Comic Sans MS"/>
              </a:rPr>
              <a:t>Gestaltung &amp; Durchführu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1280" y="1700280"/>
            <a:ext cx="76960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Auswahl des Thema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Einteilung der Stationen und Planung von Ziel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Beschaffung und Erstellen von Arbeitsmateria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Erstellen und Gestalten der Station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Festlegen von Form u. Strukturen des Lernzirkel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Wahl der Sozialfor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Art, wie Schüler Arbeitsanweisungen erhalten, festleg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Formulierung der Arbeitsaufträg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Festlegen von Verhaltensregel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Stationen aufbau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113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Didaktischer 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Einstiegsph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4" descr=""/>
          <p:cNvPicPr/>
          <p:nvPr/>
        </p:nvPicPr>
        <p:blipFill>
          <a:blip r:embed="rId1"/>
          <a:stretch/>
        </p:blipFill>
        <p:spPr>
          <a:xfrm>
            <a:off x="611280" y="2565360"/>
            <a:ext cx="79200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4000" y="259920"/>
            <a:ext cx="6870600" cy="916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Didaktischer 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Erarbeitungsph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468360" y="2708280"/>
            <a:ext cx="82090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55280" y="33300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Didaktischer 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655020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Vertiefungs- /Sicherungsph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79280" y="2492280"/>
            <a:ext cx="841536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6870600" cy="915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Vor- und Nachtei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457200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703dff"/>
                </a:solidFill>
                <a:latin typeface="Comic Sans MS"/>
              </a:rPr>
              <a:t>         </a:t>
            </a:r>
            <a:r>
              <a:rPr b="0" lang="de-DE" sz="2400" spc="-1" strike="noStrike">
                <a:solidFill>
                  <a:srgbClr val="703dff"/>
                </a:solidFill>
                <a:latin typeface="Comic Sans MS"/>
              </a:rPr>
              <a:t>Vorteile</a:t>
            </a:r>
            <a:r>
              <a:rPr b="0" lang="de-DE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Prinzip der Binnendifferenzierung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Individuelles, selbstständiges und selbstgesteuertes Lern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Eigenmotiv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Methodenkompetenz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Handlungsorientieru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Sozialkompetenz u. Gruppendynami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Förderungsmöglichkeit einzelner Schüler durch den Lehrer</a:t>
            </a:r>
            <a:r>
              <a:rPr b="0" lang="de-DE" sz="1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16000" y="1412640"/>
            <a:ext cx="424836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703dff"/>
                </a:solidFill>
                <a:latin typeface="Comic Sans MS"/>
              </a:rPr>
              <a:t>             </a:t>
            </a:r>
            <a:r>
              <a:rPr b="0" lang="de-DE" sz="2400" spc="-1" strike="noStrike">
                <a:solidFill>
                  <a:srgbClr val="703dff"/>
                </a:solidFill>
                <a:latin typeface="Comic Sans MS"/>
              </a:rPr>
              <a:t>Nachtei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Großer Disziplinbedar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Kraftaufwand und Optimismus von Seiten des Lehr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Genaue, zeitaufwendige Planu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Hoher Materialaufwan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Größerer Platzbedar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Comic Sans MS"/>
              </a:rPr>
              <a:t>Gefahr der Überforderung schwächerer Schül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Was ist ein Lernzirkel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Der Lernzirkel, auch Stationenlernen genannt, bezeichnet eine Lehrtechnik, bei der die Schüler in der Regel selbstständig und eigentätig anhand vorbereiteter Materialien, die in Stationen angeordnet sind, lern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0920" y="188640"/>
            <a:ext cx="6870600" cy="106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Verschiedene</a:t>
            </a:r>
            <a:r>
              <a:rPr b="0" lang="de-DE" sz="4400" spc="-1" strike="noStrike">
                <a:solidFill>
                  <a:srgbClr val="ffb800"/>
                </a:solidFill>
                <a:latin typeface="Comic Sans MS"/>
              </a:rPr>
              <a:t> </a:t>
            </a: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For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5364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Geschlossener Lernzirkel: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Die einzelnen Stationen bauen aufeinander auf und müssen in einer vorgegeben Reihenfolge bearbeitet werd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Picture 5" descr="lernzirkel_grundschema"/>
          <p:cNvPicPr/>
          <p:nvPr/>
        </p:nvPicPr>
        <p:blipFill>
          <a:blip r:embed="rId1"/>
          <a:stretch/>
        </p:blipFill>
        <p:spPr>
          <a:xfrm>
            <a:off x="5095800" y="2060640"/>
            <a:ext cx="349740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6870600" cy="120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Verschiedene For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Varia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5" descr="lernzirkel_variabel"/>
          <p:cNvPicPr/>
          <p:nvPr/>
        </p:nvPicPr>
        <p:blipFill>
          <a:blip r:embed="rId1"/>
          <a:stretch/>
        </p:blipFill>
        <p:spPr>
          <a:xfrm>
            <a:off x="2050920" y="1700280"/>
            <a:ext cx="6507360" cy="49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000" y="189000"/>
            <a:ext cx="6870600" cy="113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Verschiedene For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4211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Offener Lernzirkel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Die Schüler dürfen frei wählen, in welcher Reihenfolge sie die Stationen bearbeiten woll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Picture 5" descr="lermzirkel_offen"/>
          <p:cNvPicPr/>
          <p:nvPr/>
        </p:nvPicPr>
        <p:blipFill>
          <a:blip r:embed="rId1"/>
          <a:stretch/>
        </p:blipFill>
        <p:spPr>
          <a:xfrm>
            <a:off x="4067280" y="2276640"/>
            <a:ext cx="465120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Verschiedene For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-360" y="1413000"/>
            <a:ext cx="50036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Unterteilter Lernzirkel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Aufteilung in inneren und äußeren Zirkel, also in Wahl- (=Additum) und Pflichtprogramm (=Fundamentum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" name="Picture 5" descr="lernzirkel_doppelzirkel"/>
          <p:cNvPicPr/>
          <p:nvPr/>
        </p:nvPicPr>
        <p:blipFill>
          <a:blip r:embed="rId1"/>
          <a:stretch/>
        </p:blipFill>
        <p:spPr>
          <a:xfrm>
            <a:off x="4572000" y="2421000"/>
            <a:ext cx="44276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280" y="404640"/>
            <a:ext cx="6870600" cy="84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Feste (fixe) Statione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Stationen, die an einer bestimmten Stelle aufgebaut sind und an denen selbst die Arbeitsaufgabe bewältigt werden mus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5280" y="18864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000" y="14130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703dff"/>
                </a:solidFill>
                <a:latin typeface="Comic Sans MS"/>
              </a:rPr>
              <a:t>Außenstation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8" name="Picture 5" descr="lernzirkel_aussenstationen"/>
          <p:cNvPicPr/>
          <p:nvPr/>
        </p:nvPicPr>
        <p:blipFill>
          <a:blip r:embed="rId1"/>
          <a:stretch/>
        </p:blipFill>
        <p:spPr>
          <a:xfrm>
            <a:off x="1908000" y="1773360"/>
            <a:ext cx="6407280" cy="48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4000" y="333000"/>
            <a:ext cx="6870600" cy="987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0000"/>
                </a:solidFill>
                <a:latin typeface="Comic Sans MS"/>
              </a:rPr>
              <a:t>Stationentyp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703d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000" spc="-1" strike="noStrike">
                <a:solidFill>
                  <a:srgbClr val="703dff"/>
                </a:solidFill>
                <a:latin typeface="Comic Sans MS"/>
              </a:rPr>
              <a:t>Parallelstationen</a:t>
            </a:r>
            <a:endParaRPr b="0" lang="en-US" sz="3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de-DE" sz="2800" spc="-1" strike="noStrike">
                <a:solidFill>
                  <a:srgbClr val="000000"/>
                </a:solidFill>
                <a:latin typeface="Comic Sans MS"/>
              </a:rPr>
              <a:t>Es ist sehr sinnvoll, A-, B-, C-Stationen (etc.) anzubieten, an denen jeweils dasselbe Teillernziel über die Beanspruchung unterschiedlicher Sinne oder über unterschiedliche Aktivitätsformen zu erreichen is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1T11:10:24Z</dcterms:created>
  <dc:creator>Maria Schwab</dc:creator>
  <dc:description/>
  <dc:language>en-US</dc:language>
  <cp:lastModifiedBy>Silke Herbst</cp:lastModifiedBy>
  <dcterms:modified xsi:type="dcterms:W3CDTF">2011-03-29T18:54:56Z</dcterms:modified>
  <cp:revision>4</cp:revision>
  <dc:subject/>
  <dc:title>Lernzirkel</dc:title>
</cp:coreProperties>
</file>