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6184-A2B2-4F80-A67A-2989D3C860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2E63-9690-4484-9EFB-61A6D7E8222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DA8D-A4EC-42D6-9F90-614CCFC423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7F23-B365-42A8-AEE6-98A6C26B7E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29EF-FE32-4413-952B-92A1F6517A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D220-F789-4AE1-A9AA-82E112212E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FB1C-E05B-437D-8360-04A47485FB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0DD-07CF-4AEE-AED2-7BA87F8BAF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E7F1-E8CB-4D18-A184-3D8F41EE40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E66E-BC46-4C2A-9923-794A636E19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A261-3611-4535-8194-7861F9B754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867A-E256-4625-B1A6-1F661F6310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5D5E-ECC7-4433-BBD3-7D22E568A2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AC9-775F-4D73-A419-36715E4482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D801-0DCA-4CC6-B973-5051967D8B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2C78-8B36-48CC-9087-213CC88472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5215-62C9-4AA0-9437-2D5999710C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ADA4-49B4-4CCC-B0B5-92230539DD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4A6-A1EC-43A2-AA5E-3D3751A9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9D3-E655-4EF3-B4B0-7A345D37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1E0-A598-4674-A3ED-B45BAAE1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0BA-F441-403F-B1C7-E06F9373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0D9F-314D-4696-A3EB-977D317C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2377-2F60-4DDD-B219-D64A68A0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BAFB-6031-407A-B0A2-31861E52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127D-9815-416D-A787-165E1A97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7836-1B41-4F0D-B243-3FCFD741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DB7F-B74E-4984-86A7-ED21FAAC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1081-5653-4351-A492-ACD6C87C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C8B-D4A7-47F1-B048-297209B8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8AF2-9064-4E09-AFB4-79FC186A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FFB2-527B-4D9D-B003-E15E64B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783F-194B-4A3A-90EF-BF9420F7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461D-0FD4-48CB-ACD9-C760F4D5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55DD-7A32-4341-855F-36B28D20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51A-6674-4990-BC5B-276CD29F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3B5-7482-4014-8A24-C5189B4B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37B-EDAE-458C-819C-6A58E677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693-0A9D-4F2A-BFBE-C008A4F5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9E6-A219-407D-AC23-663E130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039-489D-42DA-8D07-CDE5DAF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BF3-2C94-472C-A37D-99AAD50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9C25-5C94-4150-B314-8DA0EA5ED9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902F-1530-48F7-BF79-9FB53FF288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0000"/>
                </a:solidFill>
                <a:latin typeface="Comic Sans MS"/>
              </a:rPr>
              <a:t>Lernzirke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e Form des offenen Unterric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uffer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n ihnen liegt Arbeitsmaterial in mehrfacher Ausführung a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6000" y="2060640"/>
            <a:ext cx="4276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Kontroll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Hier liegen Materialien aus, mit denen Schüler ihre Arbeitsergebnisse vergleichen könn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284720" y="1916280"/>
            <a:ext cx="41990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Service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ietet Schülern die Möglichkeit, sich über Bücher, Internet… mit Wissen zu versorg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500720" y="1916280"/>
            <a:ext cx="4059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Gestaltung &amp; Durchführu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uswahl des The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nteilung der Stationen und Planung von Zie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eschaffung und Erstellen von Arbeitsmater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rstellen und Gestalten der Statio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Form u. Strukturen des Lernzirk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Wahl der Sozial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rt, wie Schüler Arbeitsanweisungen erhalten, festle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ormulierung der Arbeitsaufträ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Verhaltensregel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tationen aufbau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stie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rarbeit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09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02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ertiefungs- /Sicher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4153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or- und Nachte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572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Vorteile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zip der Binnendifferenzieru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dividuelles, selbstständiges und selbstgesteuertes Ler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genmotiv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andlungsorientier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ozialkompetenz u. Gruppendynami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örderungsmöglichkeit einzelner Schüler durch den Lehrer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2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oßer Disziplin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Kraftaufwand und Optimismus von Seiten des Lehr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naue, zeitaufwendige Plan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her Materialaufw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ößerer Platz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fahr der Überforderung schwächerer Schü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Was ist ein Lernzirkel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</a:t>
            </a:r>
            <a:r>
              <a:rPr b="0" lang="de-DE" sz="44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36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Geschlossener Lernzirkel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einzelnen Stationen bauen aufeinander auf und müssen in einer vorgegeben Reihenfolge bearbeitet we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lernzirkel_grundschema"/>
          <p:cNvPicPr/>
          <p:nvPr/>
        </p:nvPicPr>
        <p:blipFill>
          <a:blip r:embed="rId1"/>
          <a:stretch/>
        </p:blipFill>
        <p:spPr>
          <a:xfrm>
            <a:off x="5095800" y="2060640"/>
            <a:ext cx="3497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ari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lernzirkel_variabel"/>
          <p:cNvPicPr/>
          <p:nvPr/>
        </p:nvPicPr>
        <p:blipFill>
          <a:blip r:embed="rId1"/>
          <a:stretch/>
        </p:blipFill>
        <p:spPr>
          <a:xfrm>
            <a:off x="2050920" y="1700280"/>
            <a:ext cx="6507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4211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Offen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Schüler dürfen frei wählen, in welcher Reihenfolge sie die Stationen bearbeiten wo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lermzirkel_offen"/>
          <p:cNvPicPr/>
          <p:nvPr/>
        </p:nvPicPr>
        <p:blipFill>
          <a:blip r:embed="rId1"/>
          <a:stretch/>
        </p:blipFill>
        <p:spPr>
          <a:xfrm>
            <a:off x="4067280" y="2276640"/>
            <a:ext cx="46512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Unterteilt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ufteilung in inneren und äußeren Zirkel, also in Wahl- (=Additum) und Pflichtprogramm (=Fundamentu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lernzirkel_doppelzirkel"/>
          <p:cNvPicPr/>
          <p:nvPr/>
        </p:nvPicPr>
        <p:blipFill>
          <a:blip r:embed="rId1"/>
          <a:stretch/>
        </p:blipFill>
        <p:spPr>
          <a:xfrm>
            <a:off x="4572000" y="2421000"/>
            <a:ext cx="4427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Feste (fixe) 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tationen, die an einer bestimmten Stelle aufgebaut sind und an denen selbst die Arbeitsaufgabe bewältigt werden mus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Außen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lernzirkel_aussenstationen"/>
          <p:cNvPicPr/>
          <p:nvPr/>
        </p:nvPicPr>
        <p:blipFill>
          <a:blip r:embed="rId1"/>
          <a:stretch/>
        </p:blipFill>
        <p:spPr>
          <a:xfrm>
            <a:off x="1908000" y="1773360"/>
            <a:ext cx="640728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arallel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1:10:24Z</dcterms:created>
  <dc:creator>Maria Schwab</dc:creator>
  <dc:description/>
  <dc:language>en-US</dc:language>
  <cp:lastModifiedBy>Silke Herbst</cp:lastModifiedBy>
  <dcterms:modified xsi:type="dcterms:W3CDTF">2011-03-29T18:54:56Z</dcterms:modified>
  <cp:revision>4</cp:revision>
  <dc:subject/>
  <dc:title>Lernzirkel</dc:title>
</cp:coreProperties>
</file>