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A39-C28F-40A3-855B-748449A198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631-385B-4F6A-92FF-5C9C8E5690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4B0E-81EC-48F8-A288-7BEB98E55F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2B28-FE69-4324-82BE-7BF7F98CC5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74D-89DD-462C-9C5F-CFA1615EB4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CA5-98AC-43AE-989B-064CD02D9B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050-63EB-4B9C-9AC3-1A3C7AF534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77C5-3DDF-4A28-BF31-5F1E04BE1B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30A-B555-4DA0-8352-ABD10B2A8DC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A5C4-0930-49B2-9CB0-ECFB8A79D2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B19F-C2CB-4025-8DB0-18BEF15BAB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D21-7F05-4ABB-AD6F-2FA5509C33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F4EB-1A6E-463D-9A6D-9F9F424BC2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0F7-FA14-4AEA-9511-1D3277C77C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E9C-8789-4CEE-85D3-3F579C0483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C01-9923-496A-9033-6BFBB83591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F26D-0796-4BE5-B26B-4D8BD84CE60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1CDF-AEDF-46C7-B2D4-B272691306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05E-329B-4E9C-9DA1-556E2FF8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C1D-E469-4073-A120-1E9A2F71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41B-0A20-4795-9C78-60AB8086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EBA-B48B-4CA0-A66B-819DCA9E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FA56-B159-4355-8B03-281EA200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655E-744D-499B-9222-EAEC3E24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28C3-6187-4CA2-8572-E5AF920C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5C5D-7548-465C-84E9-2B2F369A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CDC4-A8C8-4BC2-AE5A-52FD57D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16B2-EE07-4BDF-8822-D30925BC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71C0-1538-40D9-A247-C5F23F9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E91-C766-49E3-9BC1-0C6E9311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56BB-4B85-46C2-AB50-4DE3D7FA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0E6-B807-449B-99C8-1978EA13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2652-6F09-49D9-9BAF-F2DB9801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AE4-4A7B-4103-AA11-8BC30107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F3EC-27A3-4110-9EAC-16434826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96C-805C-45EE-99EA-FF029722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309-E89F-4506-A772-9983B5A6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4F2-50A2-4D00-AD12-B47756DF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DE6-8EA0-4204-95DD-C580497E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EE1-28D0-47F3-B318-59FDA3DF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E52-15B7-455E-AC2B-FDC8E1D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672-CED8-4270-8A57-D8335174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AB0F-B583-4B68-ADA8-76D19A385B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EA0-914C-41B4-9323-03A18541DA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Comic Sans MS"/>
              </a:rPr>
              <a:t>Lernzirke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e Form des offenen Unterric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uffer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n ihnen liegt Arbeitsmaterial in mehrfacher Ausführung 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6000" y="2060640"/>
            <a:ext cx="4276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Kontroll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Hier liegen Materialien aus, mit denen Schüler ihre Arbeitsergebnisse vergleichen könn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284720" y="1916280"/>
            <a:ext cx="41990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Service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ietet Schülern die Möglichkeit, sich über Bücher, Internet… mit Wissen zu versorg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500720" y="1916280"/>
            <a:ext cx="4059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Gestaltung &amp; Durchfüh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uswahl des Th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teilung der Stationen und Planung von Zie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affung und Erstellen von Arbeitsmater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stellen und Gestalten der Statio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Form u. Strukturen des Lernzirk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hl der Sozial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rt, wie Schüler Arbeitsanweisungen erhalten, festle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ormulierung der Arbeitsaufträ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Verhaltensregel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tationen aufbau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stie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rarbeit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9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0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ertiefungs- /Sicher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15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or- und Nachte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Vorteil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zip der Binnendifferenzieru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viduelles, selbstständiges und selbstgesteuertes Ler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genmoti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andlungsorienti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ozialkompetenz u. Gruppendynam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örderungsmöglichkeit einzelner Schüler durch den Lehrer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oßer Disziplin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Kraftaufwand und Optimismus von Seiten des Lehr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naue, zeitaufwendige Plan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her Materialaufw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ößerer Platz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fahr der Überforderung schwächerer Schü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as ist ein Lernzirkel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</a:t>
            </a:r>
            <a:r>
              <a:rPr b="0" lang="de-DE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3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Geschlossener Lernzirkel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einzelnen Stationen bauen aufeinander auf und müssen in einer vorgegeben Reihenfolge bearbeitet we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lernzirkel_grundschema"/>
          <p:cNvPicPr/>
          <p:nvPr/>
        </p:nvPicPr>
        <p:blipFill>
          <a:blip r:embed="rId1"/>
          <a:stretch/>
        </p:blipFill>
        <p:spPr>
          <a:xfrm>
            <a:off x="5095800" y="2060640"/>
            <a:ext cx="3497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lernzirkel_variabel"/>
          <p:cNvPicPr/>
          <p:nvPr/>
        </p:nvPicPr>
        <p:blipFill>
          <a:blip r:embed="rId1"/>
          <a:stretch/>
        </p:blipFill>
        <p:spPr>
          <a:xfrm>
            <a:off x="2050920" y="1700280"/>
            <a:ext cx="6507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21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Offen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Schüler dürfen frei wählen, in welcher Reihenfolge sie die Stationen bearbeiten wo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ermzirkel_offen"/>
          <p:cNvPicPr/>
          <p:nvPr/>
        </p:nvPicPr>
        <p:blipFill>
          <a:blip r:embed="rId1"/>
          <a:stretch/>
        </p:blipFill>
        <p:spPr>
          <a:xfrm>
            <a:off x="4067280" y="2276640"/>
            <a:ext cx="46512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Unterteilt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ufteilung in inneren und äußeren Zirkel, also in Wahl- (=Additum) und Pflichtprogramm (=Fundament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lernzirkel_doppelzirkel"/>
          <p:cNvPicPr/>
          <p:nvPr/>
        </p:nvPicPr>
        <p:blipFill>
          <a:blip r:embed="rId1"/>
          <a:stretch/>
        </p:blipFill>
        <p:spPr>
          <a:xfrm>
            <a:off x="4572000" y="2421000"/>
            <a:ext cx="442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Feste (fixe) 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ationen, die an einer bestimmten Stelle aufgebaut sind und an denen selbst die Arbeitsaufgabe bewältigt werden mu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Außen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lernzirkel_aussenstationen"/>
          <p:cNvPicPr/>
          <p:nvPr/>
        </p:nvPicPr>
        <p:blipFill>
          <a:blip r:embed="rId1"/>
          <a:stretch/>
        </p:blipFill>
        <p:spPr>
          <a:xfrm>
            <a:off x="1908000" y="1773360"/>
            <a:ext cx="64072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arallel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1:10:24Z</dcterms:created>
  <dc:creator>Maria Schwab</dc:creator>
  <dc:description/>
  <dc:language>en-US</dc:language>
  <cp:lastModifiedBy>Silke Herbst</cp:lastModifiedBy>
  <dcterms:modified xsi:type="dcterms:W3CDTF">2011-03-29T18:54:56Z</dcterms:modified>
  <cp:revision>4</cp:revision>
  <dc:subject/>
  <dc:title>Lernzirkel</dc:title>
</cp:coreProperties>
</file>