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80D0-C7A8-4970-A572-2D4F2567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06BD-3AC1-4165-96E9-B01E33B8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1DCF-F705-4A31-8A8B-97F98FBF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FCE8-CBC8-4A33-8D6D-E6E3506C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FC53-525D-48B7-9016-E867CA0D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67BD-ABD3-4D34-91CC-EF14B7A2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A3E-6596-47DE-904A-14C7B6E6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5331-A43E-4663-8F79-0EF00163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0D43-6151-47C9-ABD4-403F51C5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A33B-B92E-4139-A4C8-8A5D764E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DB62-3A7A-4919-A250-BBCB068B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D5C2-117F-4539-BA97-7A5D7756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757A-AA56-4F0C-805B-6820ABC7A0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8972-D723-4890-A412-4DD712290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Grafik 1" descr=""/>
          <p:cNvPicPr/>
          <p:nvPr/>
        </p:nvPicPr>
        <p:blipFill>
          <a:blip r:embed="rId2"/>
          <a:stretch/>
        </p:blipFill>
        <p:spPr>
          <a:xfrm>
            <a:off x="611280" y="6524640"/>
            <a:ext cx="419040" cy="14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7C62-CBB9-4A06-9A3F-D00418480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elle Programmierspr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wickelt im Medien-Labor des 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960E-4C52-4907-96CA-105AE92A050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24BB7-3674-47C6-9613-5E3CCC36BB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„AB2.2 Muster zeichnen.pdf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227B-A1E8-4A23-AD1E-9681BC7241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897F78-7505-48DB-A990-DEE91A0F90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2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ostüm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3516480" cy="4608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ihr Aussehen änd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CCE2-2841-4B24-8F01-F383F590921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3C77D-8914-4C55-A779-F547172485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läng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5399280" cy="384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Klänge abspi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4C1B-774B-49E6-9489-2BC28C80F3B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8F345-66C1-4360-8AF3-C636FAC851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ispiel Kostüme + Klä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kt „Kostüme+Klänge.sb2“ vorfü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ostüme erstellen, ändern, im Skript verwenden; Klänge im Skript einfü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4DA-056C-431B-A444-D66B1CCB90A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DE4DA-679C-49AB-B6A4-36B3D6FD20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408720" cy="865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as erste Spiel -&gt;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64000" y="1267920"/>
            <a:ext cx="35388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el für einen Spieler (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 bewegt sich auf dem Spielfeld und prallt am Rand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 bewegt horizontal mit der Maus einen Schläger, um zu verhindern, dass der Ball den unteren Rand berüh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638600" cy="3467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050920" y="3645000"/>
            <a:ext cx="576360" cy="428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576360" cy="428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468360" y="1628640"/>
            <a:ext cx="2448000" cy="1224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68360" y="2852640"/>
            <a:ext cx="180000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339640" y="2852640"/>
            <a:ext cx="86364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547640" y="1844640"/>
            <a:ext cx="503280" cy="2890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411280" y="3068280"/>
            <a:ext cx="360360" cy="431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56000" y="3933720"/>
            <a:ext cx="3240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492360" y="4724280"/>
            <a:ext cx="22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FDC-A43F-47F3-AA66-9CEF645EDDA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9B852-93B0-46A5-BB18-C74DD94F3E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rbereitung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tzenfigur lö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ühne vorbereiten -&gt; am unteren Rand dünnes farbiges Rechteck 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läger und Ball ergän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 -&gt; aus der Figurenbibliothek hinzufü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läger -&gt; neue Figur zeichnen (ausgefülltes Rechteck; Drehpunkt in die Mitte des Rechtecks setzen; y-Koordinate ungefähr -1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6084-0F65-44E0-A45E-AF9D8D89076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D0232-45C1-4996-8917-9AF72A9001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139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ripte zur Bewegung der Figuren ergänz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Schläger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5714" r="0" b="0"/>
          <a:stretch/>
        </p:blipFill>
        <p:spPr>
          <a:xfrm>
            <a:off x="1547640" y="3284640"/>
            <a:ext cx="3313440" cy="1911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840200" y="33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3429000"/>
            <a:ext cx="3095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Schläger ist zu Beginn an der Position (0;-12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ch die Bewegung der Maus kann der Schläger nach links und rechts verschob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A77F-ABE6-4E73-BBB3-E437C073378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9C033-576E-48EB-AEA6-411D99F73F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4896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Ball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4392720" cy="4174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92720" y="2205000"/>
            <a:ext cx="345600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startet bei der Position (0;160) mit einer zufällig gewählten Richtung zwischen 135° und 225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bewegt sich fortlaufend um 5 Schritte und prallt nach einiger Zeit vom Rand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er Schläger berührt, so wird die Bewegungsrichtung auf einen Wert zwischen -30° und 30° gesetzt und es ertönt ein Aufprall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llt der Ball nach unten, also berührt den farbigen Streifen, so hält das Programm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F04-738C-4C44-BC6D-989BE51CF55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D9115-C135-41F1-B2EF-5D1493C0A0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ähler einbauen für die Anzahl der „Rückschläge“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w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299A-0928-4CBB-8490-3CC5076A440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53D1B-608D-46D2-983E-1EB8D1B014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0360" y="1628280"/>
            <a:ext cx="41972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altfläche „Dat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ton „Neue Variable“ anklicken und Variablennamen fest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ble kann jetzt im Skript verwende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203640" cy="3384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H="1">
            <a:off x="1835280" y="1773360"/>
            <a:ext cx="2665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2349360"/>
            <a:ext cx="2663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13EA-0E5B-47A9-BC6F-DCA54DE7F05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795B7-3C7C-44F2-8F10-ADCD75FBE2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CC BY-SA 3.0 D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. Bir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88F2-E1C0-4220-9025-94298AF36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ipt -&gt; Stapel aus Programmierblöc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095640" cy="160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4427640" y="2349360"/>
            <a:ext cx="3809880" cy="1229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500720" y="378936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Gerade Verbindung mit Pfeil 2"/>
          <p:cNvCxnSpPr/>
          <p:nvPr/>
        </p:nvCxnSpPr>
        <p:spPr>
          <a:xfrm flipH="1">
            <a:off x="1978920" y="1413000"/>
            <a:ext cx="43236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3102-C7E7-4F63-B9A8-E1FC5AE3ED0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6462D-AA3F-493E-AEFE-B81B19E549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584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ändertes Skript für den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933720" cy="4465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6292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4788000" y="1197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ählvariable erscheint links oben auf der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643280" y="148428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3743-2131-4119-A155-C8DBBA389E9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769F7-71D4-434C-A875-5D0BC5AB9E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echnen in 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2736720" cy="140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665440" cy="1515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16360" y="1700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ennst du ein Muster in diesen Produk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1773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nen mit Re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059280" y="4508640"/>
            <a:ext cx="3960720" cy="1535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87640" y="407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fallsza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216360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1F6B-1B4A-42EA-81CF-A30F57EB7BA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415D6-6E28-446C-AE8A-A8B1758C9B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hempfehl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supereasy: Einfacher Einstieg in SCRATCH und PYTHON“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310-2700-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mit Scratch – Arbeitsheft“, Herdt-Verlag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6249-239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Learn to program with Scratch“, ISBN 978-1-59327-543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567-1A87-4C18-B9D3-D4EE31588FA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CDE3E-1958-4681-A3B7-D33ECAC139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liennummernplatzhalter 5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15DE-DBF9-4EBD-B592-63DDB1668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84360" y="404640"/>
            <a:ext cx="5903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ratch Programmierumgeb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>
            <a:alphaModFix amt="0"/>
          </a:blip>
          <a:srcRect l="-5" t="-7" r="-5" b="-7"/>
          <a:stretch/>
        </p:blipFill>
        <p:spPr>
          <a:xfrm>
            <a:off x="826920" y="1700280"/>
            <a:ext cx="6337440" cy="4240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7164360" y="1844640"/>
            <a:ext cx="165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üh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Objektlis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lock-Palet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Script-Fe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619280" y="1844640"/>
            <a:ext cx="1440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10"/>
          <p:cNvCxnSpPr/>
          <p:nvPr/>
        </p:nvCxnSpPr>
        <p:spPr>
          <a:xfrm flipV="1" rot="10800000">
            <a:off x="212328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58" name="Text Box 11"/>
          <p:cNvSpPr/>
          <p:nvPr/>
        </p:nvSpPr>
        <p:spPr>
          <a:xfrm>
            <a:off x="2700360" y="98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-Bal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3924360" y="1844640"/>
            <a:ext cx="1008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AutoShape 13"/>
          <p:cNvCxnSpPr/>
          <p:nvPr/>
        </p:nvCxnSpPr>
        <p:spPr>
          <a:xfrm flipV="1" rot="10800000">
            <a:off x="442692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61" name="Text Box 14"/>
          <p:cNvSpPr/>
          <p:nvPr/>
        </p:nvSpPr>
        <p:spPr>
          <a:xfrm>
            <a:off x="5076720" y="1052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sor-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e 1"/>
          <p:cNvSpPr/>
          <p:nvPr/>
        </p:nvSpPr>
        <p:spPr>
          <a:xfrm>
            <a:off x="1403280" y="1844640"/>
            <a:ext cx="216000" cy="287280"/>
          </a:xfrm>
          <a:prstGeom prst="ellipse">
            <a:avLst/>
          </a:prstGeom>
          <a:noFill/>
          <a:ln w="507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Gerade Verbindung mit Pfeil 3"/>
          <p:cNvCxnSpPr>
            <a:endCxn id="62" idx="0"/>
          </p:cNvCxnSpPr>
          <p:nvPr/>
        </p:nvCxnSpPr>
        <p:spPr>
          <a:xfrm>
            <a:off x="1510920" y="1347840"/>
            <a:ext cx="1080" cy="497520"/>
          </a:xfrm>
          <a:prstGeom prst="straightConnector1">
            <a:avLst/>
          </a:prstGeom>
          <a:ln w="31680">
            <a:solidFill>
              <a:srgbClr val="72bfc5"/>
            </a:solidFill>
            <a:miter/>
            <a:tailEnd len="med" type="triangle" w="med"/>
          </a:ln>
        </p:spPr>
      </p:cxnSp>
      <p:sp>
        <p:nvSpPr>
          <p:cNvPr id="64" name="Textfeld 4"/>
          <p:cNvSpPr/>
          <p:nvPr/>
        </p:nvSpPr>
        <p:spPr>
          <a:xfrm>
            <a:off x="709560" y="9414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ache än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84C5-2804-4DDA-A22B-3CFB7A85650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CF413-6B1E-4560-8235-2186488250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7B8B-1260-44DE-B745-09B81F30C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324000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12000" y="1557360"/>
            <a:ext cx="2674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ühne ist wie eine Koordinaten-Ebene mit Punkte (0;0) im Mittelpun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wegung des Maus-Cursors zeigt die Koordinaten (x;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5616360" cy="424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1297080" cy="345960"/>
          </a:xfrm>
          <a:prstGeom prst="rect">
            <a:avLst/>
          </a:prstGeom>
          <a:ln w="0">
            <a:noFill/>
          </a:ln>
        </p:spPr>
      </p:pic>
      <p:sp>
        <p:nvSpPr>
          <p:cNvPr id="70" name="Line 6"/>
          <p:cNvSpPr/>
          <p:nvPr/>
        </p:nvSpPr>
        <p:spPr>
          <a:xfrm flipH="1">
            <a:off x="6084360" y="5157720"/>
            <a:ext cx="28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AF97-060D-45A5-9E84-8FEAAE7BD7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26BBE-C86F-4868-83E4-9EC426C795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A53C-041C-4DB5-8E4E-A70EEB91A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4686480" cy="4010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611280" y="620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äsentationsmo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116000" y="1197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k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276720" y="76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üne Flagge -&gt; Start des Projek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6012000" y="1700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er Punkt -&gt; Projekt be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H="1">
            <a:off x="5364000" y="1916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4932360" y="134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176364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1042920" y="981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92360" y="260280"/>
            <a:ext cx="360036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0E3C-24A3-44B8-B637-BEE494D1C6E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32808-4301-4B7D-A54D-A83B5C4049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2FCD-959F-4A5C-B781-E7DA8612B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068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nli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4638600" cy="1685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4500720" y="213372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 aus Bibliothek wä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932360" y="2492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e Figur 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4859280" y="256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5076720" y="2852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940360" y="321300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Figur1 mit Button i (linke obere Ecke) für Figureigenscha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042920" y="23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die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 flipH="1">
            <a:off x="2555640" y="371628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1476360" y="2997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1116000" y="4365720"/>
            <a:ext cx="863640" cy="4316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 flipV="1">
            <a:off x="1547640" y="479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906120" y="515772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für die Erstellung neuer Bühnenb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3335040" cy="1117800"/>
          </a:xfrm>
          <a:prstGeom prst="rect">
            <a:avLst/>
          </a:prstGeom>
          <a:ln w="0">
            <a:noFill/>
          </a:ln>
        </p:spPr>
      </p:pic>
      <p:sp>
        <p:nvSpPr>
          <p:cNvPr id="97" name="Line 20"/>
          <p:cNvSpPr/>
          <p:nvPr/>
        </p:nvSpPr>
        <p:spPr>
          <a:xfrm>
            <a:off x="7308720" y="4365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4D11-36FF-427D-B7F5-FDE6D43A669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207F6-988A-482F-8B0D-5DDE19FCDA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8E08-153B-4304-AC94-650FC6517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erblöc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unterteilt in 10 Kategorien (Palet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3241800" cy="22636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195640" y="2349360"/>
            <a:ext cx="216036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4149720"/>
            <a:ext cx="32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öc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b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odiert zum leichten Auffinden verwandter Blö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87280" y="4508640"/>
            <a:ext cx="2592720" cy="128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>
            <a:off x="3779640" y="49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3D60-F104-447C-8134-0EE842B1D6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03757-9E02-46A2-B585-96D73CD4A8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sbeispi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atch-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tivationsbeispiel.s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ratch – Hallo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e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7168-4B21-4DFC-9DB4-0F9941EB10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70871-AF82-40E2-AACA-C26E7B6689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0568-64DE-4D8A-8FA8-E4A4AC335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</a:t>
            </a: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AB1 Die Scratch-Programmierumgebung.pdf“ mit Datei „Einstiegsbeispiel.sb2“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adadad"/>
                </a:solidFill>
                <a:latin typeface="Arial"/>
              </a:rPr>
              <a:t>alternativ „AB1.2 Die Scratch-Programmierumgebung.pdf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751A-1025-40E6-8AF7-7A3E0A3AF1A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C0B76-141E-4C56-A150-BBC8BD6879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0T16:43:43Z</dcterms:created>
  <dc:creator>G. Birke</dc:creator>
  <dc:description/>
  <dc:language>en-US</dc:language>
  <cp:lastModifiedBy>G. Birke</cp:lastModifiedBy>
  <dcterms:modified xsi:type="dcterms:W3CDTF">2017-09-24T16:55:15Z</dcterms:modified>
  <cp:revision>17</cp:revision>
  <dc:subject/>
  <dc:title>Scratch</dc:title>
</cp:coreProperties>
</file>