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D558-6399-4917-B674-A500A6D7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D0B2-8F86-4892-B5CB-51FA6D65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7DCF-0828-4AA4-A33E-B61C4C40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855-E571-4A8B-A4DF-D03FF1FE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857-B662-4964-B391-E9EC0A87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D2B5-7706-44F5-AE3E-ECE7BE14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E07-5CBA-4F76-B0E0-241CA1F1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315-ECE4-4E43-A676-EFE2DC2B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4906-B5D3-496C-BC45-FB188A7C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EDC-9E4B-4BC9-8F89-EF5AE883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6C5-D86B-47F0-9567-F130A18F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A820-EDDB-4A26-B51C-9F481E97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204C-74B9-4EAB-B95F-300BDCFE157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9A87-592C-4589-AA5A-F841540D6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Grafik 1" descr=""/>
          <p:cNvPicPr/>
          <p:nvPr/>
        </p:nvPicPr>
        <p:blipFill>
          <a:blip r:embed="rId2"/>
          <a:stretch/>
        </p:blipFill>
        <p:spPr>
          <a:xfrm>
            <a:off x="611280" y="6524640"/>
            <a:ext cx="419040" cy="14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D2BC-B63A-406F-B994-00F727FBB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elle Programmierspr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wickelt im Medien-Labor des 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735-5A46-4CE9-A4CA-117CF47B1C0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3147B-B5C5-4539-BBEA-0608D82CB9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„AB2.2 Muster zeichnen.pdf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07F9-069B-4F93-9BD0-D18B0C2DC7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031A9E-F13F-444E-A9A0-FB83F73D75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927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ostüm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1341360"/>
            <a:ext cx="3516480" cy="4608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ihr Aussehen änd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12E-0164-4DD0-81D3-968194E76D6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DA373-5F1D-456D-B38D-66CC55F390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länge-T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5399280" cy="384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88000" y="2060640"/>
            <a:ext cx="17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n können Klänge abspi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2878-8B47-4E47-9AF9-0138042C9E8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F7BCA-559F-4775-91B0-B8DCA9C0EF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ispiel Kostüme + Klä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kt „Kostüme+Klänge.sb2“ vorfü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ostüme erstellen, ändern, im Skript verwenden; Klänge im Skript einfü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D771-E2B5-4F0D-8A7F-0564505BB3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98B00-4254-4BAB-B384-1622942CA6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408720" cy="865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as erste Spiel -&gt;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64000" y="1267920"/>
            <a:ext cx="35388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el für einen Spieler (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l bewegt sich auf dem Spielfeld und prallt am Rand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 bewegt horizontal mit der Maus einen Schläger, um zu verhindern, dass der Ball den unteren Rand berüh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4638600" cy="3467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050920" y="3645000"/>
            <a:ext cx="576360" cy="428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987640" y="2492280"/>
            <a:ext cx="576360" cy="428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468360" y="1628640"/>
            <a:ext cx="2448000" cy="1224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468360" y="2852640"/>
            <a:ext cx="180000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339640" y="2852640"/>
            <a:ext cx="863640" cy="100800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547640" y="1844640"/>
            <a:ext cx="503280" cy="28908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411280" y="3068280"/>
            <a:ext cx="360360" cy="431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56000" y="3933720"/>
            <a:ext cx="3240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492360" y="4724280"/>
            <a:ext cx="22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4048-526C-4765-A4CA-27CC9F2322A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29E5D-53BC-456C-BC26-A2E91365B8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rbereitung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tzenfigur lös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ühne vorbereiten -&gt; am unteren Rand dünnes farbiges Rechteck 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läger und Ball ergän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 -&gt; aus der Figurenbibliothek hinzufü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läger -&gt; neue Figur zeichnen (ausgefülltes Rechteck; Drehpunkt in die Mitte des Rechtecks setzen; y-Koordinate ungefähr -1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A8CC-D74D-4E18-9FCA-9637DA053EE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684A4-BDAF-4F74-971F-C35F836D8C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13916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ripte zur Bewegung der Figuren ergänz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Schläger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5714" r="0" b="0"/>
          <a:stretch/>
        </p:blipFill>
        <p:spPr>
          <a:xfrm>
            <a:off x="1547640" y="3284640"/>
            <a:ext cx="3313440" cy="1911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84020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08720" y="3429000"/>
            <a:ext cx="30956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Schläger ist zu Beginn an der Position (0;-12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ch die Bewegung der Maus kann der Schläger nach links und rechts verschob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797-5F17-4CA3-AAA1-BFCA6466012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2983E-B15E-4AEF-8D8C-A902B5C1F8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4896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ript für die Ball-Figu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4392720" cy="4174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92720" y="2205000"/>
            <a:ext cx="34560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startet bei der Position (0;160) mit einer zufällig gewählten Richtung zwischen 135° und 225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r Ball bewegt sich fortlaufend um 5 Schritte und prallt nach einiger Zeit vom Rand a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rd der Schläger berührt, so wird die Bewegungsrichtung auf einen Wert zwischen -30° und 30° gesetzt und es ertönt ein Aufprall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ällt der Ball nach unten, also berührt den farbigen Streifen, so hält das Programm 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26DF-D079-4938-B15E-48A5F777412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9F4F0-E4CB-4088-B081-E6A336771A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ähler einbauen für die Anzahl der „Rückschläge“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bl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rw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cratch-Projekt für P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D67-D1AD-4D58-8425-0906067A3A5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5F057-4194-4B2E-B005-1D5DD29469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00360" y="1628280"/>
            <a:ext cx="41972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altfläche „Dat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ton „Neue Variable“ anklicken und Variablennamen fest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riable kann jetzt im Skript verwende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3203640" cy="3384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>
            <a:off x="1835280" y="1773360"/>
            <a:ext cx="2665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195280" y="2349360"/>
            <a:ext cx="26636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E0E0-9386-4B97-A2BE-485C525EF72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1BCA1-F2F6-4BC5-8550-CB3AE2393E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ußzeilenplatzhalt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Arial"/>
              </a:rPr>
              <a:t>CC BY-SA 3.0 D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. Bir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9628-A821-4A56-839A-F84405F6C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151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ipt -&gt; Stapel aus Programmierblöc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095640" cy="1603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4427640" y="2349360"/>
            <a:ext cx="3809880" cy="1229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4500720" y="378936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Gerade Verbindung mit Pfeil 2"/>
          <p:cNvCxnSpPr/>
          <p:nvPr/>
        </p:nvCxnSpPr>
        <p:spPr>
          <a:xfrm flipH="1">
            <a:off x="1978920" y="1413000"/>
            <a:ext cx="43236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FAE-161A-4947-B660-E5CE2D4C403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C0CA4-DA62-44B4-98C5-1E029234E6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5843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ändertes Skript für den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3933720" cy="4465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62924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4788000" y="1197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ählvariable erscheint links oben auf der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643280" y="148428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0F5-F2A4-4EF4-ABF9-BAACC91E31B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A9568-9574-4371-992B-794B93D445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Rechnen in Scr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2736720" cy="14065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665440" cy="1515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916360" y="1700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kennst du ein Muster in diesen Produk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0360" y="177336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hnen mit Res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059280" y="4508640"/>
            <a:ext cx="3960720" cy="1535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987640" y="40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fallsza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216360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35C-5B68-4161-B08F-7D86A24B61D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8D768-BFFE-4B86-B155-D03A271886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chempfehlu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supereasy: Einfacher Einstieg in SCRATCH und PYTHON“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310-2700-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ieren mit Scratch – Arbeitsheft“, Herdt-Verlag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宋体"/>
              </a:rPr>
              <a:t>ISBN 978-3-86249-239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„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Learn to program with Scratch“, ISBN 978-1-59327-543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2009-66F1-4D04-8733-F2877834D40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1F640-CEA3-4ACC-BC09-5E6995AA6D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liennummernplatzhalter 5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8817-C1E3-4A6B-95E1-BE13F2C2A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4360" y="404640"/>
            <a:ext cx="5903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cratch Programmierumgeb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>
            <a:alphaModFix amt="0"/>
          </a:blip>
          <a:srcRect l="-5" t="-7" r="-5" b="-7"/>
          <a:stretch/>
        </p:blipFill>
        <p:spPr>
          <a:xfrm>
            <a:off x="826920" y="1700280"/>
            <a:ext cx="6337440" cy="4240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7164360" y="1844640"/>
            <a:ext cx="165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üh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Objektlis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Block-Palet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宋体"/>
              </a:rPr>
              <a:t>Script-Fe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1619280" y="1844640"/>
            <a:ext cx="1440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10"/>
          <p:cNvCxnSpPr/>
          <p:nvPr/>
        </p:nvCxnSpPr>
        <p:spPr>
          <a:xfrm flipV="1" rot="10800000">
            <a:off x="212328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58" name="Text Box 11"/>
          <p:cNvSpPr/>
          <p:nvPr/>
        </p:nvSpPr>
        <p:spPr>
          <a:xfrm>
            <a:off x="2700360" y="98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-Bal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3924360" y="1844640"/>
            <a:ext cx="1008000" cy="2872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AutoShape 13"/>
          <p:cNvCxnSpPr/>
          <p:nvPr/>
        </p:nvCxnSpPr>
        <p:spPr>
          <a:xfrm flipV="1" rot="10800000">
            <a:off x="4426920" y="1196640"/>
            <a:ext cx="648360" cy="596160"/>
          </a:xfrm>
          <a:prstGeom prst="bentConnector2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</p:cxnSp>
      <p:sp>
        <p:nvSpPr>
          <p:cNvPr id="61" name="Text Box 14"/>
          <p:cNvSpPr/>
          <p:nvPr/>
        </p:nvSpPr>
        <p:spPr>
          <a:xfrm>
            <a:off x="5076720" y="1052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sor-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llipse 1"/>
          <p:cNvSpPr/>
          <p:nvPr/>
        </p:nvSpPr>
        <p:spPr>
          <a:xfrm>
            <a:off x="1403280" y="1844640"/>
            <a:ext cx="216000" cy="287280"/>
          </a:xfrm>
          <a:prstGeom prst="ellipse">
            <a:avLst/>
          </a:prstGeom>
          <a:noFill/>
          <a:ln w="5076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Gerade Verbindung mit Pfeil 3"/>
          <p:cNvCxnSpPr>
            <a:endCxn id="62" idx="0"/>
          </p:cNvCxnSpPr>
          <p:nvPr/>
        </p:nvCxnSpPr>
        <p:spPr>
          <a:xfrm>
            <a:off x="1510920" y="1347840"/>
            <a:ext cx="1080" cy="497520"/>
          </a:xfrm>
          <a:prstGeom prst="straightConnector1">
            <a:avLst/>
          </a:prstGeom>
          <a:ln w="31680">
            <a:solidFill>
              <a:srgbClr val="72bfc5"/>
            </a:solidFill>
            <a:miter/>
            <a:tailEnd len="med" type="arrow" w="med"/>
          </a:ln>
        </p:spPr>
      </p:cxnSp>
      <p:sp>
        <p:nvSpPr>
          <p:cNvPr id="64" name="Textfeld 4"/>
          <p:cNvSpPr/>
          <p:nvPr/>
        </p:nvSpPr>
        <p:spPr>
          <a:xfrm>
            <a:off x="709560" y="9414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ache änd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DD43-E1C9-435B-8F4C-32C7432B4F8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ED33D-E837-4671-BF6C-E27C0B0F76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353A-4733-4BCF-BD8D-315BB07FE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324000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12000" y="1557360"/>
            <a:ext cx="2674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Bühne ist wie eine Koordinaten-Ebene mit Punkte (0;0) im Mittelpun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wegung des Maus-Cursors zeigt die Koordinaten (x;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5616360" cy="4243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1297080" cy="345960"/>
          </a:xfrm>
          <a:prstGeom prst="rect">
            <a:avLst/>
          </a:prstGeom>
          <a:ln w="0">
            <a:noFill/>
          </a:ln>
        </p:spPr>
      </p:pic>
      <p:sp>
        <p:nvSpPr>
          <p:cNvPr id="70" name="Line 6"/>
          <p:cNvSpPr/>
          <p:nvPr/>
        </p:nvSpPr>
        <p:spPr>
          <a:xfrm flipH="1">
            <a:off x="6084360" y="5157720"/>
            <a:ext cx="287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07B0-6AD8-4765-8581-CC69EEBA38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9D6DB-1897-4F6B-8AE7-13C08210E2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F7F1-7B33-4BA5-83EC-6B9459B62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4686480" cy="4010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611280" y="620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äsentationsmo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116000" y="119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k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276720" y="765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üne Flagge -&gt; Start des Projek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6012000" y="1700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er Punkt -&gt; Projekt bee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H="1">
            <a:off x="5364000" y="1916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4932360" y="1341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176364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1042920" y="98100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92360" y="260280"/>
            <a:ext cx="360036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 Büh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E1EB-5E45-4DA5-A94B-04404CE888E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DB33C-6258-40B8-8AF6-CCDFF43AF0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8EA2-DC40-4110-979E-A84596681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1068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nli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4638600" cy="168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4500720" y="2133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 aus Bibliothek wäh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4932360" y="24922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e Figur 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4859280" y="256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5076720" y="2852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321300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Figur1 mit Button i (linke obere Ecke) für Figureigenschaf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042920" y="23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altfläche für die Büh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 flipH="1">
            <a:off x="2555640" y="371628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1476360" y="2997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1116000" y="4365720"/>
            <a:ext cx="863640" cy="4316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V="1">
            <a:off x="1547640" y="479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906120" y="515772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ton für die Erstellung neuer Bühnenb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2"/>
          <a:stretch/>
        </p:blipFill>
        <p:spPr>
          <a:xfrm>
            <a:off x="5651640" y="4581360"/>
            <a:ext cx="3335040" cy="1117800"/>
          </a:xfrm>
          <a:prstGeom prst="rect">
            <a:avLst/>
          </a:prstGeom>
          <a:ln w="0">
            <a:noFill/>
          </a:ln>
        </p:spPr>
      </p:pic>
      <p:sp>
        <p:nvSpPr>
          <p:cNvPr id="97" name="Line 20"/>
          <p:cNvSpPr/>
          <p:nvPr/>
        </p:nvSpPr>
        <p:spPr>
          <a:xfrm>
            <a:off x="730872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7A0B-3FB1-42C6-A1FF-00CC71259BC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86E54-D548-4850-AD28-09537C87B1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C388-E03E-4275-96C8-29619974A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mierblöc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&gt; unterteilt in 10 Kategorien (Palet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3241800" cy="22636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195640" y="2349360"/>
            <a:ext cx="2160360" cy="3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4149720"/>
            <a:ext cx="32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öc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b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odiert zum leichten Auffinden verwandter Blöc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87280" y="4508640"/>
            <a:ext cx="2592720" cy="1288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>
            <a:off x="3779640" y="49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C67-8DA1-43E2-A24C-8DDC4EA328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8D90B-2749-4489-B29B-084144DAC3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sbeispi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atch-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Motivationsbeispiel.sb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cratch – Hallo.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e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6D86-1F98-4185-A6DA-545962AB9CF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85412-E351-47A2-8DF1-677E61453D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liennummernplatzhalt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D7AF-DB85-4B4E-85C0-D2E1AB424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bständige Üb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rbeitsblatt </a:t>
            </a:r>
            <a:br>
              <a:rPr sz="32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AB1 Die Scratch-Programmierumgebung.pdf“ mit Datei „Einstiegsbeispiel.sb2“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adadad"/>
                </a:solidFill>
                <a:latin typeface="Arial"/>
              </a:rPr>
              <a:t>alternativ „AB1.2 Die Scratch-Programmierumgebung.pdf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 BY-SA 3.0 DE G. Birk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E251-D6FB-42E9-85F1-A19CDB9144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FB54C-9D12-4874-8E04-A7D633513F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0T16:43:43Z</dcterms:created>
  <dc:creator>G. Birke</dc:creator>
  <dc:description/>
  <dc:language>en-US</dc:language>
  <cp:lastModifiedBy>G. Birke</cp:lastModifiedBy>
  <dcterms:modified xsi:type="dcterms:W3CDTF">2017-09-24T16:55:15Z</dcterms:modified>
  <cp:revision>17</cp:revision>
  <dc:subject/>
  <dc:title>Scratch</dc:title>
</cp:coreProperties>
</file>